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3.jpeg" ContentType="image/jpeg"/>
  <Override PartName="/ppt/media/image12.gif" ContentType="image/gif"/>
  <Override PartName="/ppt/media/image3.jpeg" ContentType="image/jpeg"/>
  <Override PartName="/ppt/media/image10.gif" ContentType="image/gif"/>
  <Override PartName="/ppt/media/image9.png" ContentType="image/png"/>
  <Override PartName="/ppt/media/image8.png" ContentType="image/png"/>
  <Override PartName="/ppt/media/image14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5.jpeg" ContentType="image/jpeg"/>
  <Override PartName="/ppt/media/image11.gif" ContentType="image/gif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1E35-04B3-45F1-B232-A2E860835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4927-6DBE-4258-8722-0584716CE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7085-6994-415C-A037-59434C4A3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72A7-01D7-43BE-A204-151D2C454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3358-9BD9-4B18-B807-2551D4B42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0AE6-9931-496B-9AA8-360E40955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59DA-1FB4-4796-A34E-9D0513CD9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2E4E-9D2F-4F21-9608-CF654A301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90E1-4ABD-4DA9-A97F-CCAC5D97F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35AD-E93E-492D-85E5-ED93CABD1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6786-AE02-45A9-8ABE-3A27D02F9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7A47-91E9-46C4-BF28-6FE29DF55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FE1F-FFC7-4A0B-B139-7E48788A7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5BF2-0C85-49F5-BF93-09BBB2274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7B9A-A0C1-4619-BCE6-0B7A83109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2C61-CE8C-4376-86D3-13A954CE1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8937-9DDF-4047-9AC2-69311B0D3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983E-9673-46CD-AF32-6FCADBBFB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3F5D-FC5A-4770-9A95-D3F964F8A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AA59-B967-4E6E-90D8-A8711ADC6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F467-DB29-422D-AA8D-E2BFC5C5C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B077-51AB-4B5A-8619-B511A4E5F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5839-D0A9-4C83-8800-AB55DF9F5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70AD-CC56-4468-B364-8FDB5CD02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06BE-935D-4A95-A418-EC9FFE1E4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9C68-61D2-4BDF-8786-FEC885035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0FDF-81EB-4777-9D5F-3B0F55E5B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C842-3735-4667-9871-F8D8E5DC7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BD31-BC45-430B-B702-A322CF193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F3D6-F0DC-4E7A-B828-D713996C3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ECFA-2DD7-4AC6-89E3-97CA8C3AD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4FAB-0ACE-465D-BAE3-9CC11D771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7EF4-F2B0-4838-BEDC-BDB757068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66F9-D2FF-4B3D-9509-1D3EE8472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80D2-C8BF-4685-AC55-E90CCAAE0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3885-4F5D-46F8-84A6-B653DAA6C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AB8B-BDEE-4B6D-AB0F-82B516B9D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C463-183F-4446-A0A3-3CC32933D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974F-E528-44BA-8C04-7619E6CC7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1BAC-3557-4ABB-9F22-0ACA5BEB7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3286-278C-4B39-BD5F-CFE6F6216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E6A3-11F6-49B6-B571-EF1AAF5AB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5822-6872-4B4C-8278-5E407AA53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75AD-80FB-4417-B92F-BC1413AC1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2530-86E1-4C31-B44B-3595CAFA7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765C-49CC-4570-8731-80BE5ADDF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80D6-5AB3-41DD-AC44-687B1FF05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DBCB-D247-4D9B-A750-2753E2897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A193-EE30-4DA5-8741-237DD600A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5790-DDF6-410F-9A6B-5AA225B81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4EF6-2E08-4D9F-A670-62E770322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A325-4275-4813-8D3F-B228D5553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6F49-4825-44D6-AD3C-0C1B10CB4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0A7C-E6E6-4720-A092-0C3FAF948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8BFF-2324-40BB-84D4-5929E0EBE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6593-65F7-4BAD-9F7D-183000A68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CB4E-482A-4CC8-AB30-9319E4FF3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279D-82C6-4FD3-BDE3-EA22228FE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CA70-98D9-4991-A7E6-F89BBB3F8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49D4-05B7-48F7-9A1A-3E0BCF2B2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C2E9-B51A-4692-BFAD-35036AC2E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4F8A-965F-48B2-8C73-3423B38CE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A49D-1D45-4095-ACF1-57159FCB5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C1E3-57DF-4925-AABD-C98439BA9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E9A67-9F19-4D6E-BE47-031449409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3849-89FC-4057-8109-BD5370F6A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F8B6-37FA-4F2F-9B0A-E9744EB5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5A2B-3458-4D9A-8356-5304CDD55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E0F0-2EE7-4D83-AB38-3764E90C6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B588C-6CDF-45EE-8FE3-0C280B01E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5A370-2F7E-4B52-8CBA-F53D901A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E6CCB-D9A5-4096-A390-8656FDBF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158A4-459D-43C2-8D62-04CACF47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F49B1-51B8-484F-915A-AA5749FF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830BF9-5957-4571-9CC6-1C4C67B6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AAFAB-FF3E-49E5-964D-FF877CF3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DCD5-926F-46E3-A1EF-5671F0EF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99BE9-079F-4ED1-94CC-9F27700C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446C7E-C110-4119-8ADD-7478CB86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F2015-8F11-4746-84EF-43DFC486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3F033-1EF9-471E-AA84-470438620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BF20D8-949E-4DDC-A044-BDA40A9A6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D843-A72C-4504-9CDC-982F838C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F260-748C-44BD-97B4-3C177B97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532C-F9E5-4F86-ACC0-FBCA1BFE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02F4-42C6-46E8-B129-3F44D14F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1E9F-14C5-4659-A9BE-6306F266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0B9F-154E-4859-8B5C-38F31EB4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CC3B-291F-4360-A040-8920F119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36F7-6EAE-445D-A095-B27A61304B3C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9E39-DC03-4130-BB0E-6B11FFE540DB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Über lernfähige Systeme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Steurenung und Regelu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971640" y="1844640"/>
            <a:ext cx="708660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teuerung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ich gebe vor, was du machen mus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Regelung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Einfluss auf Grund des Vergleiches „soll” und „ist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1187280" y="2565360"/>
            <a:ext cx="1440000" cy="934920"/>
          </a:xfrm>
          <a:custGeom>
            <a:avLst/>
            <a:gdLst>
              <a:gd name="textAreaLeft" fmla="*/ 180000 w 1440000"/>
              <a:gd name="textAreaRight" fmla="*/ 1260000 w 144000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mache da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AutoShape 9"/>
          <p:cNvSpPr/>
          <p:nvPr/>
        </p:nvSpPr>
        <p:spPr>
          <a:xfrm>
            <a:off x="3203640" y="2565360"/>
            <a:ext cx="1439640" cy="934920"/>
          </a:xfrm>
          <a:custGeom>
            <a:avLst/>
            <a:gdLst>
              <a:gd name="textAreaLeft" fmla="*/ 180000 w 1439640"/>
              <a:gd name="textAreaRight" fmla="*/ 1260000 w 143964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mache da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AutoShape 10"/>
          <p:cNvSpPr/>
          <p:nvPr/>
        </p:nvSpPr>
        <p:spPr>
          <a:xfrm>
            <a:off x="5076720" y="2565360"/>
            <a:ext cx="1440000" cy="934920"/>
          </a:xfrm>
          <a:custGeom>
            <a:avLst/>
            <a:gdLst>
              <a:gd name="textAreaLeft" fmla="*/ 180000 w 1440000"/>
              <a:gd name="textAreaRight" fmla="*/ 1260000 w 144000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mache da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3492360" y="44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trec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Line 13"/>
          <p:cNvSpPr/>
          <p:nvPr/>
        </p:nvSpPr>
        <p:spPr>
          <a:xfrm>
            <a:off x="1835280" y="47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Line 14"/>
          <p:cNvSpPr/>
          <p:nvPr/>
        </p:nvSpPr>
        <p:spPr>
          <a:xfrm>
            <a:off x="5435640" y="47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Line 15"/>
          <p:cNvSpPr/>
          <p:nvPr/>
        </p:nvSpPr>
        <p:spPr>
          <a:xfrm>
            <a:off x="6084720" y="479736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AutoShape 16"/>
          <p:cNvSpPr/>
          <p:nvPr/>
        </p:nvSpPr>
        <p:spPr>
          <a:xfrm>
            <a:off x="4356000" y="5445000"/>
            <a:ext cx="1152720" cy="57636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Reg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Line 19"/>
          <p:cNvSpPr/>
          <p:nvPr/>
        </p:nvSpPr>
        <p:spPr>
          <a:xfrm flipH="1">
            <a:off x="5435280" y="573408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Line 20"/>
          <p:cNvSpPr/>
          <p:nvPr/>
        </p:nvSpPr>
        <p:spPr>
          <a:xfrm flipH="1">
            <a:off x="2700000" y="5734080"/>
            <a:ext cx="1584360" cy="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Line 21"/>
          <p:cNvSpPr/>
          <p:nvPr/>
        </p:nvSpPr>
        <p:spPr>
          <a:xfrm flipV="1">
            <a:off x="2700360" y="4868640"/>
            <a:ext cx="0" cy="865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Oval 22"/>
          <p:cNvSpPr/>
          <p:nvPr/>
        </p:nvSpPr>
        <p:spPr>
          <a:xfrm>
            <a:off x="2627280" y="4724280"/>
            <a:ext cx="144360" cy="1447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Line 23"/>
          <p:cNvSpPr/>
          <p:nvPr/>
        </p:nvSpPr>
        <p:spPr>
          <a:xfrm>
            <a:off x="2411280" y="45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Line 24"/>
          <p:cNvSpPr/>
          <p:nvPr/>
        </p:nvSpPr>
        <p:spPr>
          <a:xfrm flipV="1">
            <a:off x="2484360" y="450828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Line 25"/>
          <p:cNvSpPr/>
          <p:nvPr/>
        </p:nvSpPr>
        <p:spPr>
          <a:xfrm flipH="1">
            <a:off x="2842920" y="49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Object 2"/>
          <p:cNvGraphicFramePr/>
          <p:nvPr/>
        </p:nvGraphicFramePr>
        <p:xfrm>
          <a:off x="684360" y="1557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557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Regelu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Regelung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ausführliche Darstell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3635280" y="306864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trec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 flipV="1">
            <a:off x="4356000" y="443700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>
            <a:off x="5651640" y="335772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6804000" y="335772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AutoShape 13"/>
          <p:cNvSpPr/>
          <p:nvPr/>
        </p:nvSpPr>
        <p:spPr>
          <a:xfrm>
            <a:off x="2340000" y="4005360"/>
            <a:ext cx="115236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Reg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Line 14"/>
          <p:cNvSpPr/>
          <p:nvPr/>
        </p:nvSpPr>
        <p:spPr>
          <a:xfrm flipH="1">
            <a:off x="6084720" y="4292640"/>
            <a:ext cx="7192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Oval 17"/>
          <p:cNvSpPr/>
          <p:nvPr/>
        </p:nvSpPr>
        <p:spPr>
          <a:xfrm>
            <a:off x="4284720" y="429264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Line 18"/>
          <p:cNvSpPr/>
          <p:nvPr/>
        </p:nvSpPr>
        <p:spPr>
          <a:xfrm>
            <a:off x="4643280" y="450864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Line 19"/>
          <p:cNvSpPr/>
          <p:nvPr/>
        </p:nvSpPr>
        <p:spPr>
          <a:xfrm flipV="1">
            <a:off x="4716360" y="443664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Line 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AutoShape 21"/>
          <p:cNvSpPr/>
          <p:nvPr/>
        </p:nvSpPr>
        <p:spPr>
          <a:xfrm>
            <a:off x="4932360" y="4005360"/>
            <a:ext cx="1152360" cy="5760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ess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Text Box 22"/>
          <p:cNvSpPr/>
          <p:nvPr/>
        </p:nvSpPr>
        <p:spPr>
          <a:xfrm>
            <a:off x="6012000" y="2924280"/>
            <a:ext cx="1873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geregelter We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Line 23"/>
          <p:cNvSpPr/>
          <p:nvPr/>
        </p:nvSpPr>
        <p:spPr>
          <a:xfrm>
            <a:off x="4572000" y="25653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" name="Line 24"/>
          <p:cNvSpPr/>
          <p:nvPr/>
        </p:nvSpPr>
        <p:spPr>
          <a:xfrm flipH="1">
            <a:off x="4427640" y="436572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Text Box 25"/>
          <p:cNvSpPr/>
          <p:nvPr/>
        </p:nvSpPr>
        <p:spPr>
          <a:xfrm>
            <a:off x="4572000" y="2565360"/>
            <a:ext cx="10796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tör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Text Box 26"/>
          <p:cNvSpPr/>
          <p:nvPr/>
        </p:nvSpPr>
        <p:spPr>
          <a:xfrm>
            <a:off x="4284720" y="4005360"/>
            <a:ext cx="86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s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Line 27"/>
          <p:cNvSpPr/>
          <p:nvPr/>
        </p:nvSpPr>
        <p:spPr>
          <a:xfrm flipH="1">
            <a:off x="3492000" y="436572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Line 28"/>
          <p:cNvSpPr/>
          <p:nvPr/>
        </p:nvSpPr>
        <p:spPr>
          <a:xfrm>
            <a:off x="1908000" y="3357720"/>
            <a:ext cx="172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Line 30"/>
          <p:cNvSpPr/>
          <p:nvPr/>
        </p:nvSpPr>
        <p:spPr>
          <a:xfrm>
            <a:off x="2627280" y="494172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Line 31"/>
          <p:cNvSpPr/>
          <p:nvPr/>
        </p:nvSpPr>
        <p:spPr>
          <a:xfrm>
            <a:off x="1908000" y="3357720"/>
            <a:ext cx="0" cy="86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Text Box 32"/>
          <p:cNvSpPr/>
          <p:nvPr/>
        </p:nvSpPr>
        <p:spPr>
          <a:xfrm>
            <a:off x="3492360" y="4581360"/>
            <a:ext cx="8654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ol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Line 33"/>
          <p:cNvSpPr/>
          <p:nvPr/>
        </p:nvSpPr>
        <p:spPr>
          <a:xfrm flipV="1">
            <a:off x="2627280" y="4581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Line 34"/>
          <p:cNvSpPr/>
          <p:nvPr/>
        </p:nvSpPr>
        <p:spPr>
          <a:xfrm>
            <a:off x="1908000" y="422100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" name="Text Box 35"/>
          <p:cNvSpPr/>
          <p:nvPr/>
        </p:nvSpPr>
        <p:spPr>
          <a:xfrm>
            <a:off x="3419640" y="4005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iff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Object 2"/>
          <p:cNvGraphicFramePr/>
          <p:nvPr/>
        </p:nvGraphicFramePr>
        <p:xfrm>
          <a:off x="468360" y="14842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Modell bilde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971640" y="184464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Modell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Wiedergabe der Wirlkichkeit – für uns zweckmäßig vereinfach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trec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Line 7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Line 8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" name="Line 9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AutoShape 10"/>
          <p:cNvSpPr/>
          <p:nvPr/>
        </p:nvSpPr>
        <p:spPr>
          <a:xfrm>
            <a:off x="4429080" y="3645000"/>
            <a:ext cx="115272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Reg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Line 11"/>
          <p:cNvSpPr/>
          <p:nvPr/>
        </p:nvSpPr>
        <p:spPr>
          <a:xfrm flipH="1">
            <a:off x="5508360" y="393372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Line 12"/>
          <p:cNvSpPr/>
          <p:nvPr/>
        </p:nvSpPr>
        <p:spPr>
          <a:xfrm flipH="1">
            <a:off x="2773080" y="3933720"/>
            <a:ext cx="1584360" cy="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Line 13"/>
          <p:cNvSpPr/>
          <p:nvPr/>
        </p:nvSpPr>
        <p:spPr>
          <a:xfrm flipV="1">
            <a:off x="2773440" y="3068280"/>
            <a:ext cx="0" cy="865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Oval 14"/>
          <p:cNvSpPr/>
          <p:nvPr/>
        </p:nvSpPr>
        <p:spPr>
          <a:xfrm>
            <a:off x="2700360" y="29242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Line 15"/>
          <p:cNvSpPr/>
          <p:nvPr/>
        </p:nvSpPr>
        <p:spPr>
          <a:xfrm>
            <a:off x="2484360" y="27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Line 16"/>
          <p:cNvSpPr/>
          <p:nvPr/>
        </p:nvSpPr>
        <p:spPr>
          <a:xfrm flipV="1">
            <a:off x="2557440" y="270792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Line 17"/>
          <p:cNvSpPr/>
          <p:nvPr/>
        </p:nvSpPr>
        <p:spPr>
          <a:xfrm flipH="1">
            <a:off x="2916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Text Box 18"/>
          <p:cNvSpPr/>
          <p:nvPr/>
        </p:nvSpPr>
        <p:spPr>
          <a:xfrm>
            <a:off x="971640" y="479736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estmuster, Testreihen, Testsignal, Superposi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Object 2"/>
          <p:cNvGraphicFramePr/>
          <p:nvPr/>
        </p:nvGraphicFramePr>
        <p:xfrm>
          <a:off x="468360" y="14842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Regelung 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Regelung A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konstanter Fluss aus einem Kess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AutoShape 9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trec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Line 10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Line 11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Line 12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AutoShape 13"/>
          <p:cNvSpPr/>
          <p:nvPr/>
        </p:nvSpPr>
        <p:spPr>
          <a:xfrm>
            <a:off x="4429080" y="3645000"/>
            <a:ext cx="115272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Reg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5508360" y="393372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Line 15"/>
          <p:cNvSpPr/>
          <p:nvPr/>
        </p:nvSpPr>
        <p:spPr>
          <a:xfrm flipH="1">
            <a:off x="2773080" y="3933720"/>
            <a:ext cx="1584360" cy="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Line 16"/>
          <p:cNvSpPr/>
          <p:nvPr/>
        </p:nvSpPr>
        <p:spPr>
          <a:xfrm flipV="1">
            <a:off x="2773440" y="3068280"/>
            <a:ext cx="0" cy="865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Oval 17"/>
          <p:cNvSpPr/>
          <p:nvPr/>
        </p:nvSpPr>
        <p:spPr>
          <a:xfrm>
            <a:off x="2700360" y="29242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Line 18"/>
          <p:cNvSpPr/>
          <p:nvPr/>
        </p:nvSpPr>
        <p:spPr>
          <a:xfrm>
            <a:off x="2484360" y="27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8" name="Line 19"/>
          <p:cNvSpPr/>
          <p:nvPr/>
        </p:nvSpPr>
        <p:spPr>
          <a:xfrm flipV="1">
            <a:off x="2557440" y="270792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Line 20"/>
          <p:cNvSpPr/>
          <p:nvPr/>
        </p:nvSpPr>
        <p:spPr>
          <a:xfrm flipH="1">
            <a:off x="2916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0" name="Text Box 21"/>
          <p:cNvSpPr/>
          <p:nvPr/>
        </p:nvSpPr>
        <p:spPr>
          <a:xfrm>
            <a:off x="971640" y="4797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trecke ist gegeben, sein Modell ist vollständig bekannt, das Modell ändern sich nich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Object 2"/>
          <p:cNvGraphicFramePr/>
          <p:nvPr/>
        </p:nvGraphicFramePr>
        <p:xfrm>
          <a:off x="468360" y="14842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Regelung B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zabályozás B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Eigenschaften der Strecke änderba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AutoShape 6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trec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Line 7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8" name="Line 8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9" name="Line 9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0" name="AutoShape 10"/>
          <p:cNvSpPr/>
          <p:nvPr/>
        </p:nvSpPr>
        <p:spPr>
          <a:xfrm>
            <a:off x="4429080" y="3645000"/>
            <a:ext cx="115272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Reg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1" name="Line 11"/>
          <p:cNvSpPr/>
          <p:nvPr/>
        </p:nvSpPr>
        <p:spPr>
          <a:xfrm flipH="1">
            <a:off x="5508360" y="393372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Line 12"/>
          <p:cNvSpPr/>
          <p:nvPr/>
        </p:nvSpPr>
        <p:spPr>
          <a:xfrm flipH="1">
            <a:off x="2773080" y="3933720"/>
            <a:ext cx="1584360" cy="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3" name="Line 13"/>
          <p:cNvSpPr/>
          <p:nvPr/>
        </p:nvSpPr>
        <p:spPr>
          <a:xfrm flipV="1">
            <a:off x="2773440" y="3068280"/>
            <a:ext cx="0" cy="865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Oval 14"/>
          <p:cNvSpPr/>
          <p:nvPr/>
        </p:nvSpPr>
        <p:spPr>
          <a:xfrm>
            <a:off x="2700360" y="29242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Line 15"/>
          <p:cNvSpPr/>
          <p:nvPr/>
        </p:nvSpPr>
        <p:spPr>
          <a:xfrm>
            <a:off x="2484360" y="27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Line 16"/>
          <p:cNvSpPr/>
          <p:nvPr/>
        </p:nvSpPr>
        <p:spPr>
          <a:xfrm flipV="1">
            <a:off x="2557440" y="270792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Line 17"/>
          <p:cNvSpPr/>
          <p:nvPr/>
        </p:nvSpPr>
        <p:spPr>
          <a:xfrm flipH="1">
            <a:off x="2916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Text Box 18"/>
          <p:cNvSpPr/>
          <p:nvPr/>
        </p:nvSpPr>
        <p:spPr>
          <a:xfrm>
            <a:off x="971640" y="4797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trcke ist gegeben, sein Modell ist vollständig bekannt, mindestens ein Parameter der Strecke ist änderba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Line 19"/>
          <p:cNvSpPr/>
          <p:nvPr/>
        </p:nvSpPr>
        <p:spPr>
          <a:xfrm flipV="1">
            <a:off x="4643280" y="3284280"/>
            <a:ext cx="0" cy="36036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Object 2"/>
          <p:cNvGraphicFramePr/>
          <p:nvPr/>
        </p:nvGraphicFramePr>
        <p:xfrm>
          <a:off x="468360" y="155736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Regelung C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Regelung adaptiv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Strecke-Eigenschaften ändern si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5" name="AutoShape 6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trec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6" name="Line 7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Line 8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8" name="Line 9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AutoShape 10"/>
          <p:cNvSpPr/>
          <p:nvPr/>
        </p:nvSpPr>
        <p:spPr>
          <a:xfrm>
            <a:off x="4427640" y="3645000"/>
            <a:ext cx="115236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Zustan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Line 11"/>
          <p:cNvSpPr/>
          <p:nvPr/>
        </p:nvSpPr>
        <p:spPr>
          <a:xfrm flipH="1">
            <a:off x="5508360" y="393372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Line 12"/>
          <p:cNvSpPr/>
          <p:nvPr/>
        </p:nvSpPr>
        <p:spPr>
          <a:xfrm>
            <a:off x="5076720" y="4221000"/>
            <a:ext cx="0" cy="21600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Line 13"/>
          <p:cNvSpPr/>
          <p:nvPr/>
        </p:nvSpPr>
        <p:spPr>
          <a:xfrm flipV="1">
            <a:off x="2771640" y="3068280"/>
            <a:ext cx="1800" cy="115236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Oval 14"/>
          <p:cNvSpPr/>
          <p:nvPr/>
        </p:nvSpPr>
        <p:spPr>
          <a:xfrm>
            <a:off x="2700360" y="29242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Line 15"/>
          <p:cNvSpPr/>
          <p:nvPr/>
        </p:nvSpPr>
        <p:spPr>
          <a:xfrm>
            <a:off x="2484360" y="27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Line 16"/>
          <p:cNvSpPr/>
          <p:nvPr/>
        </p:nvSpPr>
        <p:spPr>
          <a:xfrm flipV="1">
            <a:off x="2557440" y="270792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6" name="Line 17"/>
          <p:cNvSpPr/>
          <p:nvPr/>
        </p:nvSpPr>
        <p:spPr>
          <a:xfrm flipH="1">
            <a:off x="2916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7" name="Text Box 18"/>
          <p:cNvSpPr/>
          <p:nvPr/>
        </p:nvSpPr>
        <p:spPr>
          <a:xfrm>
            <a:off x="971640" y="479736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odell der Strecke ist bekannt, die Eigenschaften der Strecke können sich ändern, die Änderung dieser Eigenschaften werden im Zustandsmodell erfass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8" name="Line 19"/>
          <p:cNvSpPr/>
          <p:nvPr/>
        </p:nvSpPr>
        <p:spPr>
          <a:xfrm>
            <a:off x="3276720" y="2997360"/>
            <a:ext cx="0" cy="100800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Line 20"/>
          <p:cNvSpPr/>
          <p:nvPr/>
        </p:nvSpPr>
        <p:spPr>
          <a:xfrm>
            <a:off x="3276720" y="4005360"/>
            <a:ext cx="115092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0" name="AutoShape 21"/>
          <p:cNvSpPr/>
          <p:nvPr/>
        </p:nvSpPr>
        <p:spPr>
          <a:xfrm>
            <a:off x="2268360" y="4149720"/>
            <a:ext cx="1152720" cy="57636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Reg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Line 22"/>
          <p:cNvSpPr/>
          <p:nvPr/>
        </p:nvSpPr>
        <p:spPr>
          <a:xfrm flipH="1">
            <a:off x="3419280" y="4437000"/>
            <a:ext cx="1657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Object 2"/>
          <p:cNvGraphicFramePr/>
          <p:nvPr/>
        </p:nvGraphicFramePr>
        <p:xfrm>
          <a:off x="468360" y="14842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Regelung 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Regelung D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nur die Strecke änderba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AutoShape 6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trec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8" name="Line 7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Line 8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0" name="Line 9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AutoShape 10"/>
          <p:cNvSpPr/>
          <p:nvPr/>
        </p:nvSpPr>
        <p:spPr>
          <a:xfrm>
            <a:off x="3924360" y="3645000"/>
            <a:ext cx="115236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Reg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Line 11"/>
          <p:cNvSpPr/>
          <p:nvPr/>
        </p:nvSpPr>
        <p:spPr>
          <a:xfrm flipH="1">
            <a:off x="5003640" y="3933720"/>
            <a:ext cx="115416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Line 13"/>
          <p:cNvSpPr/>
          <p:nvPr/>
        </p:nvSpPr>
        <p:spPr>
          <a:xfrm flipV="1">
            <a:off x="4643280" y="3284280"/>
            <a:ext cx="0" cy="43164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Text Box 18"/>
          <p:cNvSpPr/>
          <p:nvPr/>
        </p:nvSpPr>
        <p:spPr>
          <a:xfrm>
            <a:off x="971640" y="479736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an kann nur die Parameter der Strecke änder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Line 19"/>
          <p:cNvSpPr/>
          <p:nvPr/>
        </p:nvSpPr>
        <p:spPr>
          <a:xfrm>
            <a:off x="2050920" y="2997360"/>
            <a:ext cx="0" cy="93636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Line 21"/>
          <p:cNvSpPr/>
          <p:nvPr/>
        </p:nvSpPr>
        <p:spPr>
          <a:xfrm>
            <a:off x="2050920" y="3933720"/>
            <a:ext cx="180036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Text Box 22"/>
          <p:cNvSpPr/>
          <p:nvPr/>
        </p:nvSpPr>
        <p:spPr>
          <a:xfrm>
            <a:off x="971640" y="5300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Beispiel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städtische Wasserversorgung, Flugzeu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8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Fr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971640" y="184464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Warum wird in dem Luftverkehr bei Passagierflugzeugen kein Robotpilt eingesetzt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Object 2"/>
          <p:cNvGraphicFramePr/>
          <p:nvPr/>
        </p:nvGraphicFramePr>
        <p:xfrm>
          <a:off x="468360" y="1557360"/>
          <a:ext cx="7848720" cy="49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7848720" cy="49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Rückkopplungen – P 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Zwei Arten von Rückkopplungen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egative und positiv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971640" y="2565360"/>
            <a:ext cx="37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egative: die innere Regelung in kontinuierlich arbeitenden Systemen ist immer negativ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29" name="Picture 19" descr="nvisz"/>
          <p:cNvPicPr/>
          <p:nvPr/>
        </p:nvPicPr>
        <p:blipFill>
          <a:blip r:embed="rId3"/>
          <a:stretch/>
        </p:blipFill>
        <p:spPr>
          <a:xfrm>
            <a:off x="4788000" y="2637000"/>
            <a:ext cx="3022560" cy="109692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20"/>
          <p:cNvSpPr/>
          <p:nvPr/>
        </p:nvSpPr>
        <p:spPr>
          <a:xfrm>
            <a:off x="971640" y="429264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ositive: auch die minimalste Änderung bringt eine übergroße Veränderung mit si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1" name="AutoShape 21"/>
          <p:cNvSpPr/>
          <p:nvPr/>
        </p:nvSpPr>
        <p:spPr>
          <a:xfrm>
            <a:off x="6012000" y="4365720"/>
            <a:ext cx="720720" cy="6476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2" name="Text Box 27"/>
          <p:cNvSpPr/>
          <p:nvPr/>
        </p:nvSpPr>
        <p:spPr>
          <a:xfrm>
            <a:off x="1116000" y="558972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m Allgemeinen negative Assoziation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Rückkopplung - positiv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otwendigkeit der positiven Rückkoppl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Text Box 7"/>
          <p:cNvSpPr/>
          <p:nvPr/>
        </p:nvSpPr>
        <p:spPr>
          <a:xfrm>
            <a:off x="1116000" y="2924280"/>
            <a:ext cx="7201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Ohne Regelung: Atombomb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it Regelung: Atomkraftwerk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Energiegewinn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1187280" y="38606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iologie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0" name="Text Box 9"/>
          <p:cNvSpPr/>
          <p:nvPr/>
        </p:nvSpPr>
        <p:spPr>
          <a:xfrm>
            <a:off x="2340000" y="3860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lutgerinn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1" name="Text Box 10"/>
          <p:cNvSpPr/>
          <p:nvPr/>
        </p:nvSpPr>
        <p:spPr>
          <a:xfrm>
            <a:off x="4211640" y="3860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ntblätterung (Apoptose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42" name="Picture 11" descr="gomba"/>
          <p:cNvPicPr/>
          <p:nvPr/>
        </p:nvPicPr>
        <p:blipFill>
          <a:blip r:embed="rId3"/>
          <a:stretch/>
        </p:blipFill>
        <p:spPr>
          <a:xfrm>
            <a:off x="6156360" y="1844640"/>
            <a:ext cx="1944720" cy="1467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apeiler"/>
          <p:cNvPicPr/>
          <p:nvPr/>
        </p:nvPicPr>
        <p:blipFill>
          <a:blip r:embed="rId4"/>
          <a:stretch/>
        </p:blipFill>
        <p:spPr>
          <a:xfrm>
            <a:off x="6156360" y="3789360"/>
            <a:ext cx="1944720" cy="12970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3" descr="animalcell"/>
          <p:cNvPicPr/>
          <p:nvPr/>
        </p:nvPicPr>
        <p:blipFill>
          <a:blip r:embed="rId5"/>
          <a:stretch/>
        </p:blipFill>
        <p:spPr>
          <a:xfrm>
            <a:off x="2700360" y="4437000"/>
            <a:ext cx="2401920" cy="20541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3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3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539640" y="3645000"/>
            <a:ext cx="7848720" cy="59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cc00"/>
                </a:solidFill>
                <a:latin typeface="Times New Roman"/>
              </a:rPr>
              <a:t>Copyright (c) György Varga, 2010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539640" y="1413000"/>
            <a:ext cx="7696440" cy="16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Über lernfähige IT Systeme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Rectangle 15"/>
          <p:cNvSpPr/>
          <p:nvPr/>
        </p:nvSpPr>
        <p:spPr>
          <a:xfrm>
            <a:off x="900000" y="4653000"/>
            <a:ext cx="769644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e3e3ff"/>
                </a:solidFill>
                <a:latin typeface="Tahoma"/>
              </a:rPr>
              <a:t>www.xplanet.hu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Rückkopplung – P+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ositive und negative zusammen: Instabilitä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1116000" y="450864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n einem Regelkreis – wo sowohl negative als auch positive Rückkopplungen vorhanden sind – ist die Wahrscheinlichkeit der Instabilität größer als Nul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1" name="Text Box 9"/>
          <p:cNvSpPr/>
          <p:nvPr/>
        </p:nvSpPr>
        <p:spPr>
          <a:xfrm>
            <a:off x="1116000" y="292428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nstabilität: die Möglichkeit, dass das System nicht mehr steuerbar wird, oder in einem solchen Zustand festsetzt, was für und ungünstig ist und lässt sich aus diesem Zustand nicht mehr herausbring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2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Rückkopplung – P+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ozitive und negative zusammen: Möglichkeit der Oszilla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7" name="Text Box 7"/>
          <p:cNvSpPr/>
          <p:nvPr/>
        </p:nvSpPr>
        <p:spPr>
          <a:xfrm>
            <a:off x="1042920" y="249228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ispiel(~1890): Tierpopulation – Füchse und Has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58" name="Picture 10" descr="foxrabbit"/>
          <p:cNvPicPr/>
          <p:nvPr/>
        </p:nvPicPr>
        <p:blipFill>
          <a:blip r:embed="rId3"/>
          <a:stretch/>
        </p:blipFill>
        <p:spPr>
          <a:xfrm>
            <a:off x="2411280" y="3068640"/>
            <a:ext cx="3961080" cy="30211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Rückkopplung – P+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61" name="Object 8"/>
          <p:cNvGraphicFramePr/>
          <p:nvPr/>
        </p:nvGraphicFramePr>
        <p:xfrm>
          <a:off x="324000" y="1341360"/>
          <a:ext cx="8208720" cy="444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341360"/>
                    <a:ext cx="820872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Phasenrau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7" name="Text Box 6"/>
          <p:cNvSpPr/>
          <p:nvPr/>
        </p:nvSpPr>
        <p:spPr>
          <a:xfrm>
            <a:off x="971640" y="184464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hasenraum Technik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ie Paramter des Systems werden in einem abstrakten Raum dargestellt, in dem ein einziger Punkt den Zusand des ganzen Systems beschreib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68" name="Picture 7" descr="lorenz"/>
          <p:cNvPicPr/>
          <p:nvPr/>
        </p:nvPicPr>
        <p:blipFill>
          <a:blip r:embed="rId3"/>
          <a:stretch/>
        </p:blipFill>
        <p:spPr>
          <a:xfrm>
            <a:off x="3059280" y="2997360"/>
            <a:ext cx="3314520" cy="28573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Object 2"/>
          <p:cNvGraphicFramePr/>
          <p:nvPr/>
        </p:nvGraphicFramePr>
        <p:xfrm>
          <a:off x="684360" y="1557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557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3. Analys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3" name="Text Box 5"/>
          <p:cNvSpPr/>
          <p:nvPr/>
        </p:nvSpPr>
        <p:spPr>
          <a:xfrm>
            <a:off x="826920" y="198900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XVI-XVII. Jahhundert: Die Möglichkeit ein Verständnis über komplexe Systeme zu erwerben: nehmen wir es auseinander, untersuchen wir die Tei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4" name="Text Box 6"/>
          <p:cNvSpPr/>
          <p:nvPr/>
        </p:nvSpPr>
        <p:spPr>
          <a:xfrm>
            <a:off x="900000" y="3284640"/>
            <a:ext cx="720108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In der Biologie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führt das nicht zum Ziel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s existieren „</a:t>
            </a: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emergente Eigenschaften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”</a:t>
            </a:r>
            <a:br>
              <a:rPr sz="1800"/>
            </a:b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olche Eigenschaften, deren Erscheinung auf Grund der Eigenschaften der Teile nicht hinreichend erklärt werden kann. Atome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Molerüle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Zellen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Organ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900000" y="5445000"/>
            <a:ext cx="7201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ibniz: Die Fähigkeit des Lernens ist ein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„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igenschaft des zum Ganzen zusammengesetzten Systems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Eigenschaften der lernhähigen System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9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900000" y="2133720"/>
            <a:ext cx="7467840" cy="40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rnfähige Syste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iese Systeme besitzen am Anfang mehrere Stabilitätspunkte im dem Phasenrau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urch das „Lernen” wird das System aus einem stabilen Punkt in einen anderen, eventuell stabilen Punkt gefüh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as Lernen setzt voraus: Selbstkenntniss und ein Modell über die Umgeb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elbstkenntniss hier: womit und wie reagiert das System, welche Rückwirkung hat die Reaktion auf das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Fähigkeit der Selbstreperatu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as nicht mehr funktioniert, wird reaprie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um besser reagieren zu können: funktionierende Einheit effizienter zu gestalt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1" name="Object 2"/>
          <p:cNvGraphicFramePr/>
          <p:nvPr/>
        </p:nvGraphicFramePr>
        <p:xfrm>
          <a:off x="755640" y="198900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Eigenschaften der lernfähigen System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5" name="Text Box 5"/>
          <p:cNvSpPr/>
          <p:nvPr/>
        </p:nvSpPr>
        <p:spPr>
          <a:xfrm>
            <a:off x="900000" y="2205000"/>
            <a:ext cx="746784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er Fall des sich sonnenden Einzellers (Tibor Gánt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Hier leben zu viele Zellen: weniger Essen und weniger Licht. Wo geht unser Freund hin?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1187280" y="5804640"/>
            <a:ext cx="6337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ine nichtdeterministische Entscheid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87" name="Picture 9" descr="untitled2"/>
          <p:cNvPicPr/>
          <p:nvPr/>
        </p:nvPicPr>
        <p:blipFill>
          <a:blip r:embed="rId3"/>
          <a:stretch/>
        </p:blipFill>
        <p:spPr>
          <a:xfrm>
            <a:off x="3059280" y="3789360"/>
            <a:ext cx="2485800" cy="1494000"/>
          </a:xfrm>
          <a:prstGeom prst="rect">
            <a:avLst/>
          </a:prstGeom>
          <a:ln w="0">
            <a:noFill/>
          </a:ln>
        </p:spPr>
      </p:pic>
      <p:sp>
        <p:nvSpPr>
          <p:cNvPr id="388" name="AutoShape 16"/>
          <p:cNvSpPr/>
          <p:nvPr/>
        </p:nvSpPr>
        <p:spPr>
          <a:xfrm flipV="1">
            <a:off x="1979640" y="4365720"/>
            <a:ext cx="431640" cy="792000"/>
          </a:xfrm>
          <a:prstGeom prst="upArrow">
            <a:avLst>
              <a:gd name="adj1" fmla="val 50000"/>
              <a:gd name="adj2" fmla="val 45872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weniger Ess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9" name="AutoShape 18"/>
          <p:cNvSpPr/>
          <p:nvPr/>
        </p:nvSpPr>
        <p:spPr>
          <a:xfrm flipV="1">
            <a:off x="6227640" y="4365720"/>
            <a:ext cx="432000" cy="792000"/>
          </a:xfrm>
          <a:prstGeom prst="upArrow">
            <a:avLst>
              <a:gd name="adj1" fmla="val 50000"/>
              <a:gd name="adj2" fmla="val 45833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weniger Lich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0" name="AutoShape 19"/>
          <p:cNvSpPr/>
          <p:nvPr/>
        </p:nvSpPr>
        <p:spPr>
          <a:xfrm flipH="1">
            <a:off x="1258920" y="3862440"/>
            <a:ext cx="1728720" cy="576360"/>
          </a:xfrm>
          <a:prstGeom prst="rightArrow">
            <a:avLst>
              <a:gd name="adj1" fmla="val 50000"/>
              <a:gd name="adj2" fmla="val 74984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ehr Lich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AutoShape 20"/>
          <p:cNvSpPr/>
          <p:nvPr/>
        </p:nvSpPr>
        <p:spPr>
          <a:xfrm>
            <a:off x="5724360" y="3862440"/>
            <a:ext cx="1727280" cy="576360"/>
          </a:xfrm>
          <a:prstGeom prst="rightArrow">
            <a:avLst>
              <a:gd name="adj1" fmla="val 50000"/>
              <a:gd name="adj2" fmla="val 74922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ehr Ess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3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6000"/>
                            </p:stCondLst>
                            <p:childTnLst>
                              <p:par>
                                <p:cTn id="2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Object 2"/>
          <p:cNvGraphicFramePr/>
          <p:nvPr/>
        </p:nvGraphicFramePr>
        <p:xfrm>
          <a:off x="755640" y="198900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900000" y="2205000"/>
            <a:ext cx="74678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rnfähige Syste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elbst-Verbesserung in der Biologie: zb. Der Bizep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1187280" y="4991400"/>
            <a:ext cx="6337440" cy="6998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Wie wachsen die Muskeln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6600"/>
                </a:solidFill>
                <a:latin typeface="Arial"/>
              </a:rPr>
              <a:t>(nur verbal=beide wollen: Zelle, Umgebung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</a:rPr>
              <a:t>4. Eigenschaften der lernfähigen System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Object 2"/>
          <p:cNvGraphicFramePr/>
          <p:nvPr/>
        </p:nvGraphicFramePr>
        <p:xfrm>
          <a:off x="755640" y="198900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1" name="Text Box 5"/>
          <p:cNvSpPr/>
          <p:nvPr/>
        </p:nvSpPr>
        <p:spPr>
          <a:xfrm>
            <a:off x="900000" y="2205000"/>
            <a:ext cx="746784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n lernfähigen System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Fähigkeit der Selbs-Verbesserung:</a:t>
            </a:r>
            <a:br>
              <a:rPr sz="1800"/>
            </a:b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„funktionierende Einheit effizienter zu machen” – kann ohen positive Rückkopplung nicht funktionier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2" name="Text Box 7"/>
          <p:cNvSpPr/>
          <p:nvPr/>
        </p:nvSpPr>
        <p:spPr>
          <a:xfrm>
            <a:off x="1258920" y="4076280"/>
            <a:ext cx="6408720" cy="642600"/>
          </a:xfrm>
          <a:prstGeom prst="rect">
            <a:avLst/>
          </a:prstGeom>
          <a:solidFill>
            <a:srgbClr val="0000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In lenfähigen Systemen muss zwangsläufig positive Rückkopplung vorhanden sei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3" name="Text Box 8"/>
          <p:cNvSpPr/>
          <p:nvPr/>
        </p:nvSpPr>
        <p:spPr>
          <a:xfrm>
            <a:off x="1258920" y="4941000"/>
            <a:ext cx="6408720" cy="368280"/>
          </a:xfrm>
          <a:prstGeom prst="rect">
            <a:avLst/>
          </a:prstGeom>
          <a:solidFill>
            <a:srgbClr val="0000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Pozitive Rückkopplung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Instabilitä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4" name="Text Box 9"/>
          <p:cNvSpPr/>
          <p:nvPr/>
        </p:nvSpPr>
        <p:spPr>
          <a:xfrm>
            <a:off x="1258920" y="5598720"/>
            <a:ext cx="633744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ie lenfähigen Systeme sind – ohne Ausnahme – instabile Syste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</a:rPr>
              <a:t>4. Eigenschaften der lernfähigen System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Wann ist ein System lerfähig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900000" y="21337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Wann ist ein System lernfähig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1116000" y="429264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Im jeden lernfähigen System findet man positive Rückkopplung, deswegen sind sie instabil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1116000" y="350028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und in diesem Prozess auch nichtdeterministische Entscheidung gefällt wir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3" name="Text Box 8"/>
          <p:cNvSpPr/>
          <p:nvPr/>
        </p:nvSpPr>
        <p:spPr>
          <a:xfrm>
            <a:off x="1116000" y="306864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Wenn es sich zu ändernden Verhältnisse gut anpassen kan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4" name="Text Box 9"/>
          <p:cNvSpPr/>
          <p:nvPr/>
        </p:nvSpPr>
        <p:spPr>
          <a:xfrm>
            <a:off x="1116000" y="5236560"/>
            <a:ext cx="6337440" cy="642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Lernen: Selbs-Verbesserung über nichtdeterministischen Entscheidung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07520"/>
            <a:ext cx="77724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Im Vorau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684360" y="1844640"/>
            <a:ext cx="79930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obiltelefone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udio- und Bildaufnahme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Nicht eingeübt – Inhalt, Zusammenstellu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Frage-Antwort: ein Satz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Wer die Antwort kennt, soll ½ Minute warte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Zusammenfassung</a:t>
            </a:r>
            <a:br>
              <a:rPr sz="4000"/>
            </a:b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Eigenschaften der lernhähigen System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Text Box 5"/>
          <p:cNvSpPr/>
          <p:nvPr/>
        </p:nvSpPr>
        <p:spPr>
          <a:xfrm>
            <a:off x="900000" y="1989000"/>
            <a:ext cx="7467840" cy="46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rnfähige Syste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iese Systeme besitzen mehrere Stabilitätspunkte im dem Phasenrau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urch das „Lernen” wird das System aus einem stabilen Punkt in einen anderen, eventuell stabilen Punkt gefüh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as Lernen setzt voraus: Selbstkenntniss und ein Modell über die Umgeb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elbstkenntniss hier: womit und wie reagiert das System, welche Rückwirkung hat die Reaktion auf das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Fähigkeit der Selbstreperatu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as nicht mehr funktioniert, wird reaprie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um besser reagieren zu können: funktionierende Einheit effizienter zu mach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er Prozess des Lernens ist nichtdeterministisch und ist somit nicht reproduzierba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0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hemati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1 Nichlineare Gleichung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2 Frakta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5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hemati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Gefällt nicht jedem, aber notwendig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athematik der nicht linearen Gleichungen (Chaostheorie)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971640" y="314172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ichlineare Systeme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iese können mit linearen Gleichungen nicht beschrieben werden – Beispiel: turbulentes Verhalten der Gas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hemati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971640" y="184464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Herkömliche Sicht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ineare Gleichungen beschreiben das System  – kontinuierliche Funktion, Derivat existiert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6" name="Text Box 7"/>
          <p:cNvSpPr/>
          <p:nvPr/>
        </p:nvSpPr>
        <p:spPr>
          <a:xfrm>
            <a:off x="971640" y="24922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ichtlineare Systeme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iese können mit liearen Gleichungen nicht beschrieben werd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7" name="Text Box 8"/>
          <p:cNvSpPr/>
          <p:nvPr/>
        </p:nvSpPr>
        <p:spPr>
          <a:xfrm>
            <a:off x="1042920" y="3213000"/>
            <a:ext cx="7201080" cy="642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ann komplexes Systemverhalten nur mit Hilfe komplexer Funktionen beschieben werden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8" name="Text Box 9"/>
          <p:cNvSpPr/>
          <p:nvPr/>
        </p:nvSpPr>
        <p:spPr>
          <a:xfrm>
            <a:off x="1835280" y="4075920"/>
            <a:ext cx="5184720" cy="36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ein: einfache deterministische Funk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9" name="Text Box 10"/>
          <p:cNvSpPr/>
          <p:nvPr/>
        </p:nvSpPr>
        <p:spPr>
          <a:xfrm>
            <a:off x="1547640" y="4515840"/>
            <a:ext cx="5761080" cy="1797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ine sehr geringfügige Änderung der Anfangsbedingungen kann eine große Menge verschiedene Antworten geb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as scheinbar chaotische Verhalten kann in bildhafte Strukturen geordnet werden, wobei sehr feine und schöne Bilder entsteh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0" dur="3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0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4" name="Text Box 6"/>
          <p:cNvSpPr/>
          <p:nvPr/>
        </p:nvSpPr>
        <p:spPr>
          <a:xfrm>
            <a:off x="1042920" y="1773360"/>
            <a:ext cx="708660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Rückkopplung und Iteration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infache Iteration kann große Komplexität hervorruf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ispiel:   x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kx(1-x) , ahol  0 &lt; x &lt; 1  (Becker-Transformation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s ist nicht möglich vorauszusagen, welchen Wert x nach bestimmten (genügend großer Anzahl von) Schritten annimm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5" name="Text Box 9"/>
          <p:cNvSpPr/>
          <p:nvPr/>
        </p:nvSpPr>
        <p:spPr>
          <a:xfrm>
            <a:off x="1476360" y="4868280"/>
            <a:ext cx="576108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ich lineare Gleichungen: genaue Vorhersage des Verhaltens ist nicht mögli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6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Text Box 5"/>
          <p:cNvSpPr/>
          <p:nvPr/>
        </p:nvSpPr>
        <p:spPr>
          <a:xfrm>
            <a:off x="1042920" y="1773360"/>
            <a:ext cx="7086600" cy="27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Edward N.Lorenz(1963)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infaches Gleichungssystem mit 3 Paramter für meteorologische Vorhersag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obachtung: äußerst empfindlich gegenüber Änderungen der Anfangsparameter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Vorhersage ist unmögli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chmetteling-Effekt: „Wenn ein Schmetterling heute über Brasilien einmal Flattert, kann sein, dass nach einem Monat ein Tornado über New York entsteht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Text Box 6"/>
          <p:cNvSpPr/>
          <p:nvPr/>
        </p:nvSpPr>
        <p:spPr>
          <a:xfrm>
            <a:off x="1476360" y="4795200"/>
            <a:ext cx="2374920" cy="103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x/dt = R(y-x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y/dt = x(P-z) – 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z/dt = xy - Bz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52" name="Picture 7" descr="lorenz"/>
          <p:cNvPicPr/>
          <p:nvPr/>
        </p:nvPicPr>
        <p:blipFill>
          <a:blip r:embed="rId3"/>
          <a:stretch/>
        </p:blipFill>
        <p:spPr>
          <a:xfrm>
            <a:off x="4572000" y="4508640"/>
            <a:ext cx="1728720" cy="14904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3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hemati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6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Text Box 5"/>
          <p:cNvSpPr/>
          <p:nvPr/>
        </p:nvSpPr>
        <p:spPr>
          <a:xfrm>
            <a:off x="971640" y="14842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obachtung: die Unmöglichkeit der Vorhersage, im welchen Punkt des Phasenraumes sich der Zustand des Systems (Attracktors) in einem vorgegebenen Zeipunkt befind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Text Box 6"/>
          <p:cNvSpPr/>
          <p:nvPr/>
        </p:nvSpPr>
        <p:spPr>
          <a:xfrm>
            <a:off x="971640" y="5444280"/>
            <a:ext cx="7345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Vorhersage unmöglich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chaotisches System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Chaostheori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59" name="Picture 7" descr="lorenz"/>
          <p:cNvPicPr/>
          <p:nvPr/>
        </p:nvPicPr>
        <p:blipFill>
          <a:blip r:embed="rId3"/>
          <a:stretch/>
        </p:blipFill>
        <p:spPr>
          <a:xfrm>
            <a:off x="1258920" y="2421000"/>
            <a:ext cx="3314520" cy="285732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8"/>
          <p:cNvSpPr/>
          <p:nvPr/>
        </p:nvSpPr>
        <p:spPr>
          <a:xfrm>
            <a:off x="1116000" y="5876280"/>
            <a:ext cx="698508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Chaostheorie === Mathematik der nichlinearen Gleichung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61" name="Picture 9" descr="lorenz-3Dview"/>
          <p:cNvPicPr/>
          <p:nvPr/>
        </p:nvPicPr>
        <p:blipFill>
          <a:blip r:embed="rId4"/>
          <a:stretch/>
        </p:blipFill>
        <p:spPr>
          <a:xfrm>
            <a:off x="5076720" y="278136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2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Mathematik - Fraktalgeometri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6" name="Text Box 5"/>
          <p:cNvSpPr/>
          <p:nvPr/>
        </p:nvSpPr>
        <p:spPr>
          <a:xfrm>
            <a:off x="1042920" y="1773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Benoit Mandelbrot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Untersuchung von selbstähnlichen Figuren (Wolke: Ähnlich bis zur 7 Größenordnung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7" name="Text Box 6"/>
          <p:cNvSpPr/>
          <p:nvPr/>
        </p:nvSpPr>
        <p:spPr>
          <a:xfrm>
            <a:off x="1547640" y="4868280"/>
            <a:ext cx="576108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Fraktale: sich selbst in in kleneren Form enthaltende Formen und Gestalt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8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Fraktale - Beispie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1042920" y="1773360"/>
            <a:ext cx="70866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Menger Teppich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itte des Quadrates – ein dritter von der Seite  – wird ausgeschnitt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ierpinki Dreieck</a:t>
            </a: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Dreieck mit Loch in der Mitt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73" name="Picture 6" descr="sierp-zoom"/>
          <p:cNvPicPr/>
          <p:nvPr/>
        </p:nvPicPr>
        <p:blipFill>
          <a:blip r:embed="rId3"/>
          <a:stretch/>
        </p:blipFill>
        <p:spPr>
          <a:xfrm>
            <a:off x="5867280" y="3645000"/>
            <a:ext cx="2033640" cy="203364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" descr="Aniteppich"/>
          <p:cNvPicPr/>
          <p:nvPr/>
        </p:nvPicPr>
        <p:blipFill>
          <a:blip r:embed="rId4"/>
          <a:stretch/>
        </p:blipFill>
        <p:spPr>
          <a:xfrm>
            <a:off x="1258920" y="35002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Menge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9" name="Text Box 5"/>
          <p:cNvSpPr/>
          <p:nvPr/>
        </p:nvSpPr>
        <p:spPr>
          <a:xfrm>
            <a:off x="1042920" y="1773360"/>
            <a:ext cx="708660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Gaston Julia (1918)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Julia Menge Kc ist die Menge der komplexen Zahlen, bei denen die iterierte quadratische komplex Funktion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Qc(z) = z2 + 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schränkt bleib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c := {c€C;   lim |Qnc(z)| &lt; 0-0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                                                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0-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07520"/>
            <a:ext cx="77724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Inhal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Text Box 2053"/>
          <p:cNvSpPr/>
          <p:nvPr/>
        </p:nvSpPr>
        <p:spPr>
          <a:xfrm>
            <a:off x="684360" y="1844640"/>
            <a:ext cx="799308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Über lernfähige System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IT Architekturfrage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Beispiele (IT Architektur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Wo wir noch lernen können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 (was machen wir falsch?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Zusammenfassu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Rectangle 207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Me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1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82" name="Picture 4" descr="Julia_set"/>
          <p:cNvPicPr/>
          <p:nvPr/>
        </p:nvPicPr>
        <p:blipFill>
          <a:blip r:embed="rId1"/>
          <a:stretch/>
        </p:blipFill>
        <p:spPr>
          <a:xfrm>
            <a:off x="826920" y="1341360"/>
            <a:ext cx="7272360" cy="40896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Me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4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85" name="Picture 4" descr="julia_red"/>
          <p:cNvPicPr/>
          <p:nvPr/>
        </p:nvPicPr>
        <p:blipFill>
          <a:blip r:embed="rId1"/>
          <a:stretch/>
        </p:blipFill>
        <p:spPr>
          <a:xfrm>
            <a:off x="1547640" y="1268280"/>
            <a:ext cx="5759640" cy="51087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Me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7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88" name="Picture 4" descr="Mandel-Julia"/>
          <p:cNvPicPr/>
          <p:nvPr/>
        </p:nvPicPr>
        <p:blipFill>
          <a:blip r:embed="rId1"/>
          <a:stretch/>
        </p:blipFill>
        <p:spPr>
          <a:xfrm>
            <a:off x="1908000" y="1700280"/>
            <a:ext cx="4969080" cy="37306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Me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91" name="Picture 4" descr="600px-Julia"/>
          <p:cNvPicPr/>
          <p:nvPr/>
        </p:nvPicPr>
        <p:blipFill>
          <a:blip r:embed="rId1"/>
          <a:stretch/>
        </p:blipFill>
        <p:spPr>
          <a:xfrm>
            <a:off x="2050920" y="1413000"/>
            <a:ext cx="5067360" cy="5067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2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Fraktal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900000" y="21337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Welche Unterschiede findet man zwischen den zwei letzten Bilder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Text Box 6"/>
          <p:cNvSpPr/>
          <p:nvPr/>
        </p:nvSpPr>
        <p:spPr>
          <a:xfrm>
            <a:off x="971640" y="3788640"/>
            <a:ext cx="712944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zersplitterte Bereiche, oder ein zusammenhändender Berei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8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ndelbrot Me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1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1042920" y="1773360"/>
            <a:ext cx="708660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Mandelbrot Menge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enge der komplexen Zahlen, für welche mit dem Anfangswert z = (o + i0) die iterierte quadratische Abbild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Qc(z) = z2 + 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schränkt bleib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c := {c€C;   lim |Qnc(0)| &lt; 0-0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                                                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0-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Text Box 6"/>
          <p:cNvSpPr/>
          <p:nvPr/>
        </p:nvSpPr>
        <p:spPr>
          <a:xfrm>
            <a:off x="1547640" y="4579920"/>
            <a:ext cx="5761080" cy="6998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andelbrot Menge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Julia Menge mit Anfangswert z=(0 + 0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Text Box 7"/>
          <p:cNvSpPr/>
          <p:nvPr/>
        </p:nvSpPr>
        <p:spPr>
          <a:xfrm>
            <a:off x="1547640" y="5523840"/>
            <a:ext cx="576108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Julia Vermutung: diese Mengen bilden immer einen zusammenhängenden Berei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Mandelbrot: Apfelmännche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07" name="Picture 4" descr="Mandelbrot-Menge_farbig"/>
          <p:cNvPicPr/>
          <p:nvPr/>
        </p:nvPicPr>
        <p:blipFill>
          <a:blip r:embed="rId1"/>
          <a:stretch/>
        </p:blipFill>
        <p:spPr>
          <a:xfrm>
            <a:off x="1258920" y="1557360"/>
            <a:ext cx="6656400" cy="49928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Apfelmännchen Abschnit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0" name="Picture 4" descr="db_Chaos-Mandelbrot1"/>
          <p:cNvPicPr/>
          <p:nvPr/>
        </p:nvPicPr>
        <p:blipFill>
          <a:blip r:embed="rId1"/>
          <a:stretch/>
        </p:blipFill>
        <p:spPr>
          <a:xfrm>
            <a:off x="1258920" y="1557360"/>
            <a:ext cx="6337440" cy="49482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Apfelmännchenabschnit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2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3" name="Picture 4" descr="abfluss"/>
          <p:cNvPicPr/>
          <p:nvPr/>
        </p:nvPicPr>
        <p:blipFill>
          <a:blip r:embed="rId1"/>
          <a:stretch/>
        </p:blipFill>
        <p:spPr>
          <a:xfrm>
            <a:off x="1547640" y="1700280"/>
            <a:ext cx="5545440" cy="41590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4" name="Object 2"/>
          <p:cNvGraphicFramePr/>
          <p:nvPr/>
        </p:nvGraphicFramePr>
        <p:xfrm>
          <a:off x="684360" y="1628640"/>
          <a:ext cx="7848360" cy="47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628640"/>
                    <a:ext cx="7848360" cy="47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Warum ist dieMandelbrot Menge interessant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900000" y="1700280"/>
            <a:ext cx="7086600" cy="42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Julia Menge können wir auch als ein Phasendiagramm betracht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s sind nur die Julia Mengen interessant, wo die Elemente in einem zusammenhängenden Bereich lieg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olange wir einem System Zustände nur innerhalb dieses Bereiches erlauben, das System kann arbeitsfähig (beschränkt) bleib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ie Stabilität eines – wohl mit nicht linearer Gleichung beschiebenen  – Systems ist stark von empfindlichen und genauen Anfangsbedingungen anhängi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merkung: hier ist keine Aussage über die Anzahl der Sammelpunkte – Lorenz Attraktor: 2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9" name="Text Box 6"/>
          <p:cNvSpPr/>
          <p:nvPr/>
        </p:nvSpPr>
        <p:spPr>
          <a:xfrm>
            <a:off x="1403280" y="5949360"/>
            <a:ext cx="619308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m Rand der Mandelbrot Menge findet man Frakta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Über lernfähige Systeme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Was ist Ihre Vorstellung über das Lernen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Fraktálok - kép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22" name="Picture 5" descr="800px-Mandelbrotmenge_Orbit_Alle"/>
          <p:cNvPicPr/>
          <p:nvPr/>
        </p:nvPicPr>
        <p:blipFill>
          <a:blip r:embed="rId1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3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6. Anschauungsproblem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7" name="Text Box 5"/>
          <p:cNvSpPr/>
          <p:nvPr/>
        </p:nvSpPr>
        <p:spPr>
          <a:xfrm>
            <a:off x="971640" y="2133720"/>
            <a:ext cx="70866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in Teil der Entschedungen ist – im Prozess des Lernens – nicht deterministis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ispiel: Flughafen, zwei Ausgäng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8" name="Text Box 6"/>
          <p:cNvSpPr/>
          <p:nvPr/>
        </p:nvSpPr>
        <p:spPr>
          <a:xfrm>
            <a:off x="900000" y="4650840"/>
            <a:ext cx="7417080" cy="103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Im Leben ist ein Teil der wirklichen Entscheidung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icht vorbestimmt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iese Tatsache trägt dazu bei, dass wir lernen (anpassen) könn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9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6. Anschauungsprobem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Text Box 5"/>
          <p:cNvSpPr/>
          <p:nvPr/>
        </p:nvSpPr>
        <p:spPr>
          <a:xfrm>
            <a:off x="1042920" y="1773360"/>
            <a:ext cx="708660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in Teil der Entscheidungen ist im Prozess des Lernens nicht deterministis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enn die Entscheidung sich nicht in einem inneren oder äußeren Modell manifestie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er „Schöpfer” wird nie erfahren, wann und warum das System sich so entschieden ha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er vollständige Prozess des Lernens kann nicht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eterministisch wiederholt werd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Text Box 6"/>
          <p:cNvSpPr/>
          <p:nvPr/>
        </p:nvSpPr>
        <p:spPr>
          <a:xfrm>
            <a:off x="1332000" y="4941000"/>
            <a:ext cx="648000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as ist der Punkt, wo der technische Fachman kapituliert!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5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Was ausgeblieben is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1042920" y="1773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as ist die Erscheinung oder der Prozess, was sich zu dem Lernprozess gehört, und noch nicht angeprochen wurde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1187280" y="3283920"/>
            <a:ext cx="64803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Worauf trinkt man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Was ausgeblieben is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2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3" name="AutoShape 7"/>
          <p:cNvSpPr/>
          <p:nvPr/>
        </p:nvSpPr>
        <p:spPr>
          <a:xfrm>
            <a:off x="1403280" y="2133720"/>
            <a:ext cx="720720" cy="6476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4" name="AutoShape 8"/>
          <p:cNvSpPr/>
          <p:nvPr/>
        </p:nvSpPr>
        <p:spPr>
          <a:xfrm>
            <a:off x="2700360" y="2205000"/>
            <a:ext cx="1584360" cy="432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Wahrnehm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5" name="AutoShape 9"/>
          <p:cNvSpPr/>
          <p:nvPr/>
        </p:nvSpPr>
        <p:spPr>
          <a:xfrm>
            <a:off x="2700360" y="3141720"/>
            <a:ext cx="136692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Kneip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6" name="AutoShape 10"/>
          <p:cNvSpPr/>
          <p:nvPr/>
        </p:nvSpPr>
        <p:spPr>
          <a:xfrm>
            <a:off x="4932360" y="3141720"/>
            <a:ext cx="151128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Diskuss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7" name="Rectangle 11"/>
          <p:cNvSpPr/>
          <p:nvPr/>
        </p:nvSpPr>
        <p:spPr>
          <a:xfrm>
            <a:off x="6804000" y="2276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Leh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8" name="Rectangle 12"/>
          <p:cNvSpPr/>
          <p:nvPr/>
        </p:nvSpPr>
        <p:spPr>
          <a:xfrm>
            <a:off x="4932360" y="4076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keine Leh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9" name="AutoShape 13"/>
          <p:cNvSpPr/>
          <p:nvPr/>
        </p:nvSpPr>
        <p:spPr>
          <a:xfrm>
            <a:off x="5003640" y="4941720"/>
            <a:ext cx="1366920" cy="432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Vergess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0" name="Line 14"/>
          <p:cNvSpPr/>
          <p:nvPr/>
        </p:nvSpPr>
        <p:spPr>
          <a:xfrm>
            <a:off x="2340000" y="2421000"/>
            <a:ext cx="287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1" name="Line 15"/>
          <p:cNvSpPr/>
          <p:nvPr/>
        </p:nvSpPr>
        <p:spPr>
          <a:xfrm>
            <a:off x="3348000" y="270828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2" name="Line 16"/>
          <p:cNvSpPr/>
          <p:nvPr/>
        </p:nvSpPr>
        <p:spPr>
          <a:xfrm>
            <a:off x="4211640" y="3357720"/>
            <a:ext cx="5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3" name="Line 17"/>
          <p:cNvSpPr/>
          <p:nvPr/>
        </p:nvSpPr>
        <p:spPr>
          <a:xfrm flipV="1">
            <a:off x="6443640" y="2707920"/>
            <a:ext cx="72072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4" name="Line 18"/>
          <p:cNvSpPr/>
          <p:nvPr/>
        </p:nvSpPr>
        <p:spPr>
          <a:xfrm>
            <a:off x="5651640" y="364500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5" name="Line 19"/>
          <p:cNvSpPr/>
          <p:nvPr/>
        </p:nvSpPr>
        <p:spPr>
          <a:xfrm>
            <a:off x="5651640" y="450864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4000"/>
                            </p:stCondLst>
                            <p:childTnLst>
                              <p:par>
                                <p:cTn id="4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6000"/>
                            </p:stCondLst>
                            <p:childTnLst>
                              <p:par>
                                <p:cTn id="4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8000"/>
                            </p:stCondLst>
                            <p:childTnLst>
                              <p:par>
                                <p:cTn id="4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6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Was ausgeblieben is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9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1042920" y="1773360"/>
            <a:ext cx="70866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In einer neuen Umgebung ist ein Teil der Reaktionen einfach überflüssi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Was nicht gebraucht wird: das muss vergessen sei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1" name="Text Box 6"/>
          <p:cNvSpPr/>
          <p:nvPr/>
        </p:nvSpPr>
        <p:spPr>
          <a:xfrm>
            <a:off x="1187280" y="3283920"/>
            <a:ext cx="648036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as Vergessen kann – und ist auch oft – mit der Wille des Vergessens verbunden sei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2" name="Text Box 7"/>
          <p:cNvSpPr/>
          <p:nvPr/>
        </p:nvSpPr>
        <p:spPr>
          <a:xfrm>
            <a:off x="826920" y="4365000"/>
            <a:ext cx="7345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s muss die Unterscheidung  „wichtig/unwichtig” gertoffen sei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1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6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3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Was ausgeblieben is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6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971640" y="206064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Unwichtig – Vergessen - Wahrnehmu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8" name="Text Box 6"/>
          <p:cNvSpPr/>
          <p:nvPr/>
        </p:nvSpPr>
        <p:spPr>
          <a:xfrm>
            <a:off x="971640" y="4488120"/>
            <a:ext cx="6480000" cy="974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ie Wahrnehmung wird von unserem Bewusstsein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uf Grund der Einordnung wichtig/unwichtig –wesentlich beeinfluss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9" name="Text Box 8"/>
          <p:cNvSpPr/>
          <p:nvPr/>
        </p:nvSpPr>
        <p:spPr>
          <a:xfrm>
            <a:off x="1042920" y="2997360"/>
            <a:ext cx="70866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as, was wir für wichtig halten, beeinflusst auch unsere Wahrnehmung. Dieser Einfluss ist sehr stark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ispiel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0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8. Technische System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4" name="Text Box 8"/>
          <p:cNvSpPr/>
          <p:nvPr/>
        </p:nvSpPr>
        <p:spPr>
          <a:xfrm>
            <a:off x="971640" y="1844640"/>
            <a:ext cx="708660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Reproduktion lernfähiger technischen Systeme (kopieren)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Reproduktion lernfähiger Systeme ist einfa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Reproduktion eines „schon gelernten Systems” ist nur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ann eifach,wenn das System auch während der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rbeit von der Umgebung physikalisch gut abgrenzbar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und abtrennbar is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5" name="Text Box 9"/>
          <p:cNvSpPr/>
          <p:nvPr/>
        </p:nvSpPr>
        <p:spPr>
          <a:xfrm>
            <a:off x="1116000" y="400536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eispiel: gelehrte Nervensystem-Simula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(männlich-weiblich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6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8. Technische System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9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elbstreproduktion technischer Systeme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wird nicht behandel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1" name="Text Box 6"/>
          <p:cNvSpPr/>
          <p:nvPr/>
        </p:nvSpPr>
        <p:spPr>
          <a:xfrm>
            <a:off x="1116000" y="4005360"/>
            <a:ext cx="70866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omputerviren: adaptierungsfähige „Werke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Frage: wie prüfen sie, ob der Wirt-Kompuer (Wirtzelle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von diesem Virus befallen ist, oder nicht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2" name="Object 2"/>
          <p:cNvGraphicFramePr/>
          <p:nvPr/>
        </p:nvGraphicFramePr>
        <p:xfrm>
          <a:off x="395280" y="1773360"/>
          <a:ext cx="845820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73360"/>
                    <a:ext cx="84582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4" name="Rectangle 3"/>
          <p:cNvSpPr/>
          <p:nvPr/>
        </p:nvSpPr>
        <p:spPr>
          <a:xfrm>
            <a:off x="468360" y="2924280"/>
            <a:ext cx="8064360" cy="3384360"/>
          </a:xfrm>
          <a:prstGeom prst="rect">
            <a:avLst/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5" name="AutoShape 4"/>
          <p:cNvSpPr/>
          <p:nvPr/>
        </p:nvSpPr>
        <p:spPr>
          <a:xfrm>
            <a:off x="539640" y="3933720"/>
            <a:ext cx="6191280" cy="180036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1048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9</a:t>
            </a:r>
            <a:r>
              <a:rPr b="0" lang="en-IE" sz="4400" spc="-1" strike="noStrike">
                <a:solidFill>
                  <a:srgbClr val="e3e3ff"/>
                </a:solidFill>
                <a:latin typeface="Arial"/>
                <a:ea typeface="Arial"/>
              </a:rPr>
              <a:t>. </a:t>
            </a: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Zusammenfassu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7" name="Text Box 6"/>
          <p:cNvSpPr/>
          <p:nvPr/>
        </p:nvSpPr>
        <p:spPr>
          <a:xfrm>
            <a:off x="539640" y="17733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rnfähige Syste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9" name="Text Box 8"/>
          <p:cNvSpPr/>
          <p:nvPr/>
        </p:nvSpPr>
        <p:spPr>
          <a:xfrm>
            <a:off x="3708360" y="2276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Umgeb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0" name="AutoShape 9"/>
          <p:cNvSpPr/>
          <p:nvPr/>
        </p:nvSpPr>
        <p:spPr>
          <a:xfrm>
            <a:off x="2556000" y="3141720"/>
            <a:ext cx="180000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Wahrnehm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1" name="AutoShape 10"/>
          <p:cNvSpPr/>
          <p:nvPr/>
        </p:nvSpPr>
        <p:spPr>
          <a:xfrm>
            <a:off x="2916360" y="4437000"/>
            <a:ext cx="1871640" cy="432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Enscheidung d/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684360" y="4437000"/>
            <a:ext cx="143964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wichti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995640" y="5084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Irrtu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4" name="Line 13"/>
          <p:cNvSpPr/>
          <p:nvPr/>
        </p:nvSpPr>
        <p:spPr>
          <a:xfrm>
            <a:off x="3492360" y="2708280"/>
            <a:ext cx="0" cy="50472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5" name="Rectangle 14"/>
          <p:cNvSpPr/>
          <p:nvPr/>
        </p:nvSpPr>
        <p:spPr>
          <a:xfrm>
            <a:off x="1908000" y="5084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Änder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6" name="Line 15"/>
          <p:cNvSpPr/>
          <p:nvPr/>
        </p:nvSpPr>
        <p:spPr>
          <a:xfrm flipV="1">
            <a:off x="1403280" y="3573000"/>
            <a:ext cx="1297080" cy="64764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Line 16"/>
          <p:cNvSpPr/>
          <p:nvPr/>
        </p:nvSpPr>
        <p:spPr>
          <a:xfrm>
            <a:off x="3492360" y="3645000"/>
            <a:ext cx="358920" cy="57600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8" name="Line 17"/>
          <p:cNvSpPr/>
          <p:nvPr/>
        </p:nvSpPr>
        <p:spPr>
          <a:xfrm flipH="1">
            <a:off x="2555640" y="4797360"/>
            <a:ext cx="360360" cy="2872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9" name="Line 18"/>
          <p:cNvSpPr/>
          <p:nvPr/>
        </p:nvSpPr>
        <p:spPr>
          <a:xfrm>
            <a:off x="4572000" y="4869000"/>
            <a:ext cx="287280" cy="21564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0" name="Line 19"/>
          <p:cNvSpPr/>
          <p:nvPr/>
        </p:nvSpPr>
        <p:spPr>
          <a:xfrm flipH="1">
            <a:off x="2123640" y="4653000"/>
            <a:ext cx="79236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1" name="AutoShape 20"/>
          <p:cNvSpPr/>
          <p:nvPr/>
        </p:nvSpPr>
        <p:spPr>
          <a:xfrm>
            <a:off x="6804000" y="4221000"/>
            <a:ext cx="1655640" cy="79236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Vergess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2" name="Line 21"/>
          <p:cNvSpPr/>
          <p:nvPr/>
        </p:nvSpPr>
        <p:spPr>
          <a:xfrm>
            <a:off x="6372360" y="4508640"/>
            <a:ext cx="433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3" name="Line 22"/>
          <p:cNvSpPr/>
          <p:nvPr/>
        </p:nvSpPr>
        <p:spPr>
          <a:xfrm flipH="1">
            <a:off x="6372000" y="4724280"/>
            <a:ext cx="43164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4" name="Text Box 23"/>
          <p:cNvSpPr/>
          <p:nvPr/>
        </p:nvSpPr>
        <p:spPr>
          <a:xfrm>
            <a:off x="5003640" y="537372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Gedächtni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5" name="Text Box 24"/>
          <p:cNvSpPr/>
          <p:nvPr/>
        </p:nvSpPr>
        <p:spPr>
          <a:xfrm>
            <a:off x="2627280" y="587700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negative und  positive Rückkopplungen, instabile Tei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6" name="AutoShape 25"/>
          <p:cNvSpPr/>
          <p:nvPr/>
        </p:nvSpPr>
        <p:spPr>
          <a:xfrm>
            <a:off x="4500720" y="3141720"/>
            <a:ext cx="136656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Eingriff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7" name="Line 26"/>
          <p:cNvSpPr/>
          <p:nvPr/>
        </p:nvSpPr>
        <p:spPr>
          <a:xfrm flipV="1">
            <a:off x="4284720" y="3645000"/>
            <a:ext cx="647640" cy="57600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8" name="Line 27"/>
          <p:cNvSpPr/>
          <p:nvPr/>
        </p:nvSpPr>
        <p:spPr>
          <a:xfrm flipV="1">
            <a:off x="5076720" y="2708280"/>
            <a:ext cx="0" cy="5032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Anschauu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900000" y="2133720"/>
            <a:ext cx="6934320" cy="28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Anschauu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Anschauung: die Art und Weise, wie man etwas betrachtet oder interpretiert oder über etwas denk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Denkweise: bestimmter Gedankenablauf, basierend auf Erfahrung, Gemützustand, äußere Einflüsse,..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Denken: innere Beschäftigung, wenn wir versuchen eine Erkenntnis zu formulieren, basiert auf Vorstellungen, Erinnerungen und Begriff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1258920" y="5515920"/>
            <a:ext cx="68403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er Grund der Anschauung ist die Glaube oder das Wiss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Architekturfragen der IT Systeme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Jetzt wird es technisch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Beispiel (IT Architektur)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Haben Sie noch nicht genug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6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Wo wir noch lernen können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(was machen wir falsch?)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7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Das gemeinsamme Wissen ist auch ein gemeinsammer Schatz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9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Was ist Ihre Vorstellung über das Lernen?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0" name="Rectangle 4"/>
          <p:cNvSpPr/>
          <p:nvPr/>
        </p:nvSpPr>
        <p:spPr>
          <a:xfrm>
            <a:off x="2268360" y="4365720"/>
            <a:ext cx="489600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Danke Ihre Geduld und Aufmeksamkeit!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55280" y="2997360"/>
            <a:ext cx="727884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</a:rPr>
              <a:t>E N D 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468360" y="184464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4464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Lernfähi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900000" y="21337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Wann ist ein System lernfähig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3203640" y="3645000"/>
            <a:ext cx="2808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Lern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Line 9"/>
          <p:cNvSpPr/>
          <p:nvPr/>
        </p:nvSpPr>
        <p:spPr>
          <a:xfrm>
            <a:off x="2124000" y="4653000"/>
            <a:ext cx="489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Line 10"/>
          <p:cNvSpPr/>
          <p:nvPr/>
        </p:nvSpPr>
        <p:spPr>
          <a:xfrm>
            <a:off x="4500720" y="4292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Line 11"/>
          <p:cNvSpPr/>
          <p:nvPr/>
        </p:nvSpPr>
        <p:spPr>
          <a:xfrm>
            <a:off x="2124000" y="4653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Line 12"/>
          <p:cNvSpPr/>
          <p:nvPr/>
        </p:nvSpPr>
        <p:spPr>
          <a:xfrm>
            <a:off x="7020000" y="4653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AutoShape 13"/>
          <p:cNvSpPr/>
          <p:nvPr/>
        </p:nvSpPr>
        <p:spPr>
          <a:xfrm>
            <a:off x="1042920" y="5013360"/>
            <a:ext cx="230508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wird gelehr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AutoShape 14"/>
          <p:cNvSpPr/>
          <p:nvPr/>
        </p:nvSpPr>
        <p:spPr>
          <a:xfrm>
            <a:off x="5580000" y="5084640"/>
            <a:ext cx="2519280" cy="57636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Eigene Entscheid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Text Box 15"/>
          <p:cNvSpPr/>
          <p:nvPr/>
        </p:nvSpPr>
        <p:spPr>
          <a:xfrm>
            <a:off x="611280" y="5804640"/>
            <a:ext cx="324000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ndere sagen was und wi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5003640" y="5668560"/>
            <a:ext cx="3240360" cy="642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Verbesserung eigener Fähigkeit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Text Box 17"/>
          <p:cNvSpPr/>
          <p:nvPr/>
        </p:nvSpPr>
        <p:spPr>
          <a:xfrm>
            <a:off x="1835280" y="2787120"/>
            <a:ext cx="518472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Wenn es sich zur ändernden Umgebung gut anpassen kan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AutoShape 18"/>
          <p:cNvSpPr/>
          <p:nvPr/>
        </p:nvSpPr>
        <p:spPr>
          <a:xfrm>
            <a:off x="7236000" y="4221000"/>
            <a:ext cx="720720" cy="648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I. Über lerhfähige System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971640" y="1844640"/>
            <a:ext cx="7086600" cy="33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1 Steuerung und Regel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2 Rückkopplung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3 Analys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4 Eigenschaften lernfähiger Syste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5 Mathemati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6 Anschauungsproble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7 Was ausgeblieben is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8 Technische Syste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9 Zusammenfass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Steuerung und Regelu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971640" y="1844640"/>
            <a:ext cx="7200720" cy="33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Kybernetik: interdisziplinäre Forsch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1944, Mathematik, Biologie, Technik, Gesellschaf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Norbert Wiener, Claude Shann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Wichtigste Ergebnisse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Theorie der Steuerung und Regelu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Rückkopplung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Informationstheorie (Signaltheorie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Phasendiagramm (Phasenraum) Techni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7T10:09:43Z</dcterms:created>
  <dc:creator>www.xplanet.hu</dc:creator>
  <dc:description/>
  <dc:language>en-US</dc:language>
  <cp:lastModifiedBy>Gyorgy Varga</cp:lastModifiedBy>
  <dcterms:modified xsi:type="dcterms:W3CDTF">2013-01-04T19:49:07Z</dcterms:modified>
  <cp:revision>1621</cp:revision>
  <dc:subject/>
  <dc:title>J2EE-001-VargaGy</dc:title>
</cp:coreProperties>
</file>