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3.jpeg" ContentType="image/jpeg"/>
  <Override PartName="/ppt/media/image12.gif" ContentType="image/gif"/>
  <Override PartName="/ppt/media/image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5.jpeg" ContentType="image/jpeg"/>
  <Override PartName="/ppt/media/image11.gif" ContentType="image/gi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4DC1-82B6-4220-A6F0-38C1DF82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F1C7-FBB5-4CC2-A862-BDF103EF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1DCC-D7EC-476D-9BC4-5408A784D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9D0C-F1E2-45B3-BD0B-F1E9D734C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269A-4AF5-424F-8DCC-7291332CC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1BBD-A808-4564-8414-09898EF86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DAF8-FF5E-4BDC-B692-27BBE97C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B0D7-9E49-41CD-8AA2-F6DA9435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4BEE-165C-40A7-8565-082236056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7165-82FD-49AA-9B5D-4BD938062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914A-96B2-4B3D-AA56-A118D2A6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67B-E861-4DAA-8DEB-C7F6AA516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35EB-2E1F-4998-AB59-43F5AEF3B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21E0-F399-40A6-B9ED-DFF24AA4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CA9F-BD01-4E72-80AB-1884F41A8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0501-DA48-4672-9F34-F3E358D4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CF3-0BB3-449B-B76B-CF88378D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1E70-1503-415A-A560-0EFD91337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C52D-000B-4FF9-8090-534C0150F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4FCA-6004-4A65-B974-9AC25970A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BF1C-FB5A-453B-A018-52CC73F05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7ECC-DAF3-40F4-A7CC-21407DBAC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6D18-C466-4D14-B52D-CB2C74F92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7F9-6847-4A40-BDA2-969FFA099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C90-A118-4961-AE7B-CD1DD3DF3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CFAE-0129-476C-9022-280484649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4EEF-312B-40A4-9F0E-858458ECB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A419-3157-48B6-96C7-BFCBFD24A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9497-3D61-4A0C-9498-554A8A87B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EB22-63DD-493D-8CE4-0B05F9DC8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5FF-E310-480F-B3A5-24C666D5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EFB7-B85E-4361-9BAE-731D7F3E2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BD1D-2578-4B78-BCFF-8550280B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7B85-9237-4F9E-B9E1-4D20B4FAF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4DA3-EBBE-4938-90EE-11C7C4B69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353D-75B4-4C0B-BA83-CE831773D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9D23-CBE7-4368-BB14-6A435D57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ADC-A9B7-435D-9907-089BD42E9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E7E-7421-4D5D-8C72-A7D9F539B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6C4-608D-4800-B803-22AB859D7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ACBE-3688-4D9F-8EF0-1DA18E0AC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28B3-874D-4963-8ECE-9B98ADB89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FE2A-5BDA-40A3-BF73-73E16AC03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BACB-CCEF-4E3B-B7E1-A1818D5B7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D680-48FD-4EB3-8278-0FB1370BE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99CD-B8A9-4E38-A32D-E3FD14DFF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1CDA-1853-4747-8257-305C88D5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4861-CF1D-44CD-879B-E85269CBA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1C93-DBCF-4AAF-BBBD-B413C91D7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15BA-5D29-47DF-B895-AAA300FC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9117-10C1-47CE-9054-A300F46F5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E43F-3E96-47BE-912E-1B30E6F1C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C83C-C5C3-4522-A064-D483F9CA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68D4-7BE6-4FDA-A874-B62401252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299E-4477-470E-B664-3EC2F655A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31CD-8B93-458B-AA2C-E663DEC36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240-0DA6-4D18-B682-0DA4E3DCE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76B-9D86-45E6-B865-E5FA79224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B8B4-3674-41F5-8ABE-5E1EAE490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D523-6897-41EB-BD1D-FFD0BE48A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487-A2B3-433F-9075-D10A64CEE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7FC6-C2B0-495E-AE38-84E7E78C0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8D88F-F387-4389-8150-CE6C3DB6B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F83F-B0A4-408F-A24D-328921B60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2F1B-B4BB-4A46-ABC9-919D7D4CF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420B-4CB1-4C98-A2DF-05B558053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83E-29D6-4082-AC9E-C8519276F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6FD3-6DB8-4132-BE27-21A4B6E07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s Serif fonts are the easiest to read especially from a distance and for titles and hea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sure your text can be read from a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itles can confuse. Try to avoid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izes are easy on the ey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practice punctuation can be confusing and distracting on screen. Remember, you are not writing a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use too many styles for the same reason as not using too many anim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use jargon etc when you know your audience will understand without expla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051-C06D-4C90-9188-4F8D888F0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ED5-2916-4AC0-9580-ACB0CB78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88CA-5304-4454-926F-08FE24B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4385-DB75-47F4-9597-3CF45E4B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3B607-AAA0-42F5-9FBB-9BC36495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B56AA-2A9C-42D6-92DE-D2AF8C66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C4B5-DC7D-42C6-BC25-C188B5FC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D05CA-24F5-4B23-8884-D18374FF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990D-5F54-4752-81B4-E10CD9158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8D3FC-9A39-4737-870F-0356E024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D049D-326E-4284-BC4B-7C8C619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A66D-208B-42CD-B115-57C00B8F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30AF-D722-4B69-B0FE-FDD6CD4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59E3-FF27-4285-8E1B-8492BA6F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F9802-A8C6-437B-9095-D3B4C4FD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B78E3-0A3F-4B37-95FA-9D945B95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FA757-2570-4C52-8866-6E1A8866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2895-6381-4A72-97FC-698FBFA0A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CA56-5AF6-4D5F-A384-9B141A77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B7A-2BCB-48DF-BF43-0DD8F82F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A55-DB93-4D3F-ABE2-EA0F833B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6D32-AF16-4C17-B0B5-3A31386F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908-657D-4091-BB50-054D87E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4B4-0EDE-448A-911E-D8BF3EA2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B6D3-990F-45D8-8FCB-E7FDD608B7A8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626A-7A1B-45E2-B721-50D034466500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 system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Rectangle 38"/>
          <p:cNvSpPr/>
          <p:nvPr/>
        </p:nvSpPr>
        <p:spPr>
          <a:xfrm>
            <a:off x="539640" y="3645000"/>
            <a:ext cx="7848720" cy="100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First published: 2010-02-2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I. About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971640" y="1844640"/>
            <a:ext cx="708660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Controlling (cybernetic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3 Analys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4 Features of 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5 Mathematic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6 Problems with the general known view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7 What we are miss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8 Technical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9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971640" y="1844640"/>
            <a:ext cx="72007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ybernetics: interdisciplinary resear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1944, mathematics, biolology, technical control, socie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orbert Wiener, Claude Shann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st important result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theorie of contro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feed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information theor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phas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71640" y="1844640"/>
            <a:ext cx="70866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i say, what you have to d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comparing „is” and „should be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118728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203640" y="2565360"/>
            <a:ext cx="1439640" cy="934920"/>
          </a:xfrm>
          <a:custGeom>
            <a:avLst/>
            <a:gdLst>
              <a:gd name="textAreaLeft" fmla="*/ 180000 w 1439640"/>
              <a:gd name="textAreaRight" fmla="*/ 1260000 w 143964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5076720" y="2565360"/>
            <a:ext cx="1440000" cy="934920"/>
          </a:xfrm>
          <a:custGeom>
            <a:avLst/>
            <a:gdLst>
              <a:gd name="textAreaLeft" fmla="*/ 180000 w 1440000"/>
              <a:gd name="textAreaRight" fmla="*/ 1260000 w 144000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o thi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3492360" y="44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1835280" y="47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>
            <a:off x="5435640" y="47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608472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4356000" y="544500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5435280" y="573408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 flipH="1">
            <a:off x="2700000" y="573408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 flipV="1">
            <a:off x="2700360" y="486864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Oval 22"/>
          <p:cNvSpPr/>
          <p:nvPr/>
        </p:nvSpPr>
        <p:spPr>
          <a:xfrm>
            <a:off x="2627280" y="4724280"/>
            <a:ext cx="144360" cy="1447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11280" y="45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 flipV="1">
            <a:off x="2484360" y="450828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2842920" y="49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53964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Loop-controlling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finer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3635280" y="306864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 flipV="1">
            <a:off x="4356000" y="4437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5651640" y="335772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Line 12"/>
          <p:cNvSpPr/>
          <p:nvPr/>
        </p:nvSpPr>
        <p:spPr>
          <a:xfrm>
            <a:off x="6804000" y="335772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AutoShape 13"/>
          <p:cNvSpPr/>
          <p:nvPr/>
        </p:nvSpPr>
        <p:spPr>
          <a:xfrm>
            <a:off x="234000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 flipH="1">
            <a:off x="6084720" y="4292640"/>
            <a:ext cx="7192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4284720" y="429264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4643280" y="450864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4716360" y="443664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4932360" y="4005360"/>
            <a:ext cx="1152360" cy="5760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asur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012000" y="2708280"/>
            <a:ext cx="187308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valu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>
            <a:off x="457200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4427640" y="4365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572000" y="256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ru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284720" y="4005360"/>
            <a:ext cx="865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re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Line 27"/>
          <p:cNvSpPr/>
          <p:nvPr/>
        </p:nvSpPr>
        <p:spPr>
          <a:xfrm flipH="1">
            <a:off x="3492000" y="4365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Line 28"/>
          <p:cNvSpPr/>
          <p:nvPr/>
        </p:nvSpPr>
        <p:spPr>
          <a:xfrm>
            <a:off x="1908000" y="335772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Line 30"/>
          <p:cNvSpPr/>
          <p:nvPr/>
        </p:nvSpPr>
        <p:spPr>
          <a:xfrm>
            <a:off x="2627280" y="4941720"/>
            <a:ext cx="172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Line 31"/>
          <p:cNvSpPr/>
          <p:nvPr/>
        </p:nvSpPr>
        <p:spPr>
          <a:xfrm>
            <a:off x="190800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3348000" y="4581360"/>
            <a:ext cx="10098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hou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Line 33"/>
          <p:cNvSpPr/>
          <p:nvPr/>
        </p:nvSpPr>
        <p:spPr>
          <a:xfrm flipV="1">
            <a:off x="2627280" y="4581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Line 34"/>
          <p:cNvSpPr/>
          <p:nvPr/>
        </p:nvSpPr>
        <p:spPr>
          <a:xfrm>
            <a:off x="1908000" y="4221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3419640" y="400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iff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Get a mode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odel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giving a simpler view of realitiy – but proper for out goa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12"/>
          <p:cNvSpPr/>
          <p:nvPr/>
        </p:nvSpPr>
        <p:spPr>
          <a:xfrm flipH="1">
            <a:off x="2773080" y="3933720"/>
            <a:ext cx="165420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971640" y="479736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estsignal, superposition, test pattern, test ser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keep constant 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AutoShape 9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AutoShape 13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Line 15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Line 16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17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is known, there is no changing parameter in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B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B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some paramters of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>
            <a:off x="4429080" y="3645000"/>
            <a:ext cx="115272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2773080" y="3933720"/>
            <a:ext cx="1584360" cy="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V="1">
            <a:off x="2773440" y="3068280"/>
            <a:ext cx="0" cy="865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t’s model are known, at least one parameter of the controlled system can be changed by the 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 flipV="1">
            <a:off x="4643280" y="3284280"/>
            <a:ext cx="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468360" y="155736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- 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adaptiv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442764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stat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H="1">
            <a:off x="5508360" y="3933720"/>
            <a:ext cx="649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12"/>
          <p:cNvSpPr/>
          <p:nvPr/>
        </p:nvSpPr>
        <p:spPr>
          <a:xfrm>
            <a:off x="5076720" y="4221000"/>
            <a:ext cx="0" cy="216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771640" y="3068280"/>
            <a:ext cx="1800" cy="1152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Oval 14"/>
          <p:cNvSpPr/>
          <p:nvPr/>
        </p:nvSpPr>
        <p:spPr>
          <a:xfrm>
            <a:off x="2700360" y="2924280"/>
            <a:ext cx="144360" cy="144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15"/>
          <p:cNvSpPr/>
          <p:nvPr/>
        </p:nvSpPr>
        <p:spPr>
          <a:xfrm>
            <a:off x="2484360" y="2781360"/>
            <a:ext cx="144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Line 16"/>
          <p:cNvSpPr/>
          <p:nvPr/>
        </p:nvSpPr>
        <p:spPr>
          <a:xfrm flipV="1">
            <a:off x="2557440" y="2707920"/>
            <a:ext cx="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Line 17"/>
          <p:cNvSpPr/>
          <p:nvPr/>
        </p:nvSpPr>
        <p:spPr>
          <a:xfrm flipH="1">
            <a:off x="2916000" y="314172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18"/>
          <p:cNvSpPr/>
          <p:nvPr/>
        </p:nvSpPr>
        <p:spPr>
          <a:xfrm>
            <a:off x="971640" y="479736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trolled system and is’s model are known –  features of the controlled systems may change, this change will be recognised and given to the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Line 19"/>
          <p:cNvSpPr/>
          <p:nvPr/>
        </p:nvSpPr>
        <p:spPr>
          <a:xfrm>
            <a:off x="3276720" y="2997360"/>
            <a:ext cx="0" cy="100800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>
            <a:off x="3276720" y="4005360"/>
            <a:ext cx="115092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AutoShape 22"/>
          <p:cNvSpPr/>
          <p:nvPr/>
        </p:nvSpPr>
        <p:spPr>
          <a:xfrm>
            <a:off x="2268360" y="4149720"/>
            <a:ext cx="1152720" cy="576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 flipH="1">
            <a:off x="3419280" y="4437000"/>
            <a:ext cx="1657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68360" y="14842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Controlling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ontrolling D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only the controlled system can be chang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3565440" y="2637000"/>
            <a:ext cx="2016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ontroll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7"/>
          <p:cNvSpPr/>
          <p:nvPr/>
        </p:nvSpPr>
        <p:spPr>
          <a:xfrm>
            <a:off x="1908000" y="299736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8"/>
          <p:cNvSpPr/>
          <p:nvPr/>
        </p:nvSpPr>
        <p:spPr>
          <a:xfrm>
            <a:off x="5508720" y="2997360"/>
            <a:ext cx="165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9"/>
          <p:cNvSpPr/>
          <p:nvPr/>
        </p:nvSpPr>
        <p:spPr>
          <a:xfrm>
            <a:off x="6157800" y="299736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3924360" y="3645000"/>
            <a:ext cx="1152360" cy="576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11"/>
          <p:cNvSpPr/>
          <p:nvPr/>
        </p:nvSpPr>
        <p:spPr>
          <a:xfrm flipH="1">
            <a:off x="5003640" y="3933720"/>
            <a:ext cx="11541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 flipV="1">
            <a:off x="4643280" y="3284280"/>
            <a:ext cx="0" cy="431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Text Box 18"/>
          <p:cNvSpPr/>
          <p:nvPr/>
        </p:nvSpPr>
        <p:spPr>
          <a:xfrm>
            <a:off x="971640" y="4797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are unable to change the inputs, we can change the controlled system on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19"/>
          <p:cNvSpPr/>
          <p:nvPr/>
        </p:nvSpPr>
        <p:spPr>
          <a:xfrm>
            <a:off x="2050920" y="2997360"/>
            <a:ext cx="0" cy="93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>
            <a:off x="2050920" y="3933720"/>
            <a:ext cx="180036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900000" y="5516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xample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town water supply, aircraf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1. Ques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Why is so, that no robot pilot will be used by airliners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50920" y="115920"/>
            <a:ext cx="8381880" cy="27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0066"/>
                </a:solidFill>
                <a:latin typeface="Times New Roman"/>
              </a:rPr>
              <a:t>EXTRACTION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ffcc00"/>
                </a:solidFill>
                <a:latin typeface="Times New Roman"/>
              </a:rPr>
              <a:t>EXTRACTION</a:t>
            </a:r>
            <a:endParaRPr b="0" lang="en-US" sz="6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84360" y="2565360"/>
            <a:ext cx="7696080" cy="15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cc00"/>
                </a:solidFill>
                <a:latin typeface="Times New Roman"/>
              </a:rPr>
              <a:t>from the lectur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468360" y="1557360"/>
          <a:ext cx="784872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784872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, 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971640" y="184464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wo types of feedbac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 and positi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18"/>
          <p:cNvSpPr/>
          <p:nvPr/>
        </p:nvSpPr>
        <p:spPr>
          <a:xfrm>
            <a:off x="971640" y="2565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egativ: the internal controls in all continuously working systems is based on nega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35" name="Picture 19" descr="nvisz"/>
          <p:cNvPicPr/>
          <p:nvPr/>
        </p:nvPicPr>
        <p:blipFill>
          <a:blip r:embed="rId3"/>
          <a:stretch/>
        </p:blipFill>
        <p:spPr>
          <a:xfrm>
            <a:off x="4788000" y="2637000"/>
            <a:ext cx="3022560" cy="109692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20"/>
          <p:cNvSpPr/>
          <p:nvPr/>
        </p:nvSpPr>
        <p:spPr>
          <a:xfrm>
            <a:off x="1116000" y="429264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ositiv: a very little change makes a relativ hudge change in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AutoShape 21"/>
          <p:cNvSpPr/>
          <p:nvPr/>
        </p:nvSpPr>
        <p:spPr>
          <a:xfrm>
            <a:off x="6012000" y="4365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1547640" y="5445000"/>
            <a:ext cx="60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everyday thinking: association with destruc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- 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cessity of positiv feedback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Text Box 7"/>
          <p:cNvSpPr/>
          <p:nvPr/>
        </p:nvSpPr>
        <p:spPr>
          <a:xfrm>
            <a:off x="1116000" y="2924280"/>
            <a:ext cx="72010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out control: atomic bom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ith control: nuclear power plant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nergy for us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1187280" y="386064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iology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9"/>
          <p:cNvSpPr/>
          <p:nvPr/>
        </p:nvSpPr>
        <p:spPr>
          <a:xfrm>
            <a:off x="234000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blood clott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4140360" y="3860640"/>
            <a:ext cx="19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ciduous (apoptos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48" name="Picture 11" descr="gomba"/>
          <p:cNvPicPr/>
          <p:nvPr/>
        </p:nvPicPr>
        <p:blipFill>
          <a:blip r:embed="rId3"/>
          <a:stretch/>
        </p:blipFill>
        <p:spPr>
          <a:xfrm>
            <a:off x="6156360" y="1844640"/>
            <a:ext cx="194472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apeiler"/>
          <p:cNvPicPr/>
          <p:nvPr/>
        </p:nvPicPr>
        <p:blipFill>
          <a:blip r:embed="rId4"/>
          <a:stretch/>
        </p:blipFill>
        <p:spPr>
          <a:xfrm>
            <a:off x="6156360" y="3789360"/>
            <a:ext cx="1944720" cy="1297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animalcell"/>
          <p:cNvPicPr/>
          <p:nvPr/>
        </p:nvPicPr>
        <p:blipFill>
          <a:blip r:embed="rId5"/>
          <a:stretch/>
        </p:blipFill>
        <p:spPr>
          <a:xfrm>
            <a:off x="2700360" y="4437000"/>
            <a:ext cx="2401920" cy="2054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instabl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11600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any controlled loop, where there are positiv and negativ feedbacks, the probability of instability is always greather than nul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1116000" y="2924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stability: he possibility, that a system may not be controlled anymore; or it comes into a state, which is not acceptable for us and there is no way to get ist back into a proper sta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71640" y="184464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ositiv and negativ together: potential for oscill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042920" y="2492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xample: foxes and rabbits in a closed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4" name="Picture 10" descr="foxrabbit"/>
          <p:cNvPicPr/>
          <p:nvPr/>
        </p:nvPicPr>
        <p:blipFill>
          <a:blip r:embed="rId3"/>
          <a:stretch/>
        </p:blipFill>
        <p:spPr>
          <a:xfrm>
            <a:off x="2411280" y="3068640"/>
            <a:ext cx="3961080" cy="30211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Feedback – P+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367" name="Object 8"/>
          <p:cNvGraphicFramePr/>
          <p:nvPr/>
        </p:nvGraphicFramePr>
        <p:xfrm>
          <a:off x="324000" y="1341360"/>
          <a:ext cx="8208720" cy="444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41360"/>
                    <a:ext cx="820872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2. Phase spac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971640" y="184464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hase space technic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e show the parameters of the system in an abtract space, where one single point decribes the whol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74" name="Picture 7" descr="lorenz"/>
          <p:cNvPicPr/>
          <p:nvPr/>
        </p:nvPicPr>
        <p:blipFill>
          <a:blip r:embed="rId3"/>
          <a:stretch/>
        </p:blipFill>
        <p:spPr>
          <a:xfrm>
            <a:off x="3059280" y="2997360"/>
            <a:ext cx="3314520" cy="28573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684360" y="1557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3.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900000" y="1916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XVI-XVII. century: way to get knowledge about very compley systemes: get apart, scrutinize these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971640" y="3284640"/>
            <a:ext cx="72007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In biology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we get no resul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re are so calles „</a:t>
            </a: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emergent poperties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”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se cannot be explained by the properties of the consisting part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971640" y="5445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ibniz: learning „is the capability of  the whole system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Text Box 7"/>
          <p:cNvSpPr/>
          <p:nvPr/>
        </p:nvSpPr>
        <p:spPr>
          <a:xfrm>
            <a:off x="900000" y="2205000"/>
            <a:ext cx="7467840" cy="40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uch a system has more beginning stability points in the phase sp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s gets from one possible stable point into a next possible stable point in the space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side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, what is the re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ctioning unit more effici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7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1187280" y="529992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ot 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92" name="Picture 9" descr="untitled2"/>
          <p:cNvPicPr/>
          <p:nvPr/>
        </p:nvPicPr>
        <p:blipFill>
          <a:blip r:embed="rId3"/>
          <a:stretch/>
        </p:blipFill>
        <p:spPr>
          <a:xfrm>
            <a:off x="3059280" y="3500280"/>
            <a:ext cx="2485800" cy="149400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6"/>
          <p:cNvSpPr/>
          <p:nvPr/>
        </p:nvSpPr>
        <p:spPr>
          <a:xfrm flipV="1">
            <a:off x="2268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AutoShape 18"/>
          <p:cNvSpPr/>
          <p:nvPr/>
        </p:nvSpPr>
        <p:spPr>
          <a:xfrm flipV="1">
            <a:off x="5940360" y="4075920"/>
            <a:ext cx="432000" cy="792360"/>
          </a:xfrm>
          <a:prstGeom prst="upArrow">
            <a:avLst>
              <a:gd name="adj1" fmla="val 50000"/>
              <a:gd name="adj2" fmla="val 4585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AutoShape 19"/>
          <p:cNvSpPr/>
          <p:nvPr/>
        </p:nvSpPr>
        <p:spPr>
          <a:xfrm flipH="1">
            <a:off x="1258920" y="3573360"/>
            <a:ext cx="1728720" cy="576360"/>
          </a:xfrm>
          <a:prstGeom prst="rightArrow">
            <a:avLst>
              <a:gd name="adj1" fmla="val 50000"/>
              <a:gd name="adj2" fmla="val 74984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ligh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AutoShape 20"/>
          <p:cNvSpPr/>
          <p:nvPr/>
        </p:nvSpPr>
        <p:spPr>
          <a:xfrm>
            <a:off x="5724360" y="3573360"/>
            <a:ext cx="1872000" cy="576360"/>
          </a:xfrm>
          <a:prstGeom prst="rightArrow">
            <a:avLst>
              <a:gd name="adj1" fmla="val 50000"/>
              <a:gd name="adj2" fmla="val 81199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ore foo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21"/>
          <p:cNvSpPr/>
          <p:nvPr/>
        </p:nvSpPr>
        <p:spPr>
          <a:xfrm>
            <a:off x="900000" y="2205000"/>
            <a:ext cx="74678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he sun loving cell (by Dr. Tibor Gánt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ere are living too much cells: less food, less sunshine.        Into which direction is our friend moveing?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900000" y="2205000"/>
            <a:ext cx="74678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-mending in the biology: example bicep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187280" y="515700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How grow the muscles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39640" y="3645000"/>
            <a:ext cx="7848720" cy="59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cc00"/>
                </a:solidFill>
                <a:latin typeface="Times New Roman"/>
              </a:rPr>
              <a:t>Copyright (c) Dr. György Varga, 201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539640" y="1413000"/>
            <a:ext cx="7696440" cy="16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 systems with 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900000" y="4653000"/>
            <a:ext cx="769644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e3e3ff"/>
                </a:solidFill>
                <a:latin typeface="Tahoma"/>
              </a:rPr>
              <a:t>www.xplanet.hu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755640" y="198900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98900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900000" y="2205000"/>
            <a:ext cx="746784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In lear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bility of self mending: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„making unit more effitient” is only possible with positiv feedbac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258920" y="421236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here must be positiv feedback in learning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Text Box 8"/>
          <p:cNvSpPr/>
          <p:nvPr/>
        </p:nvSpPr>
        <p:spPr>
          <a:xfrm>
            <a:off x="1258920" y="4941000"/>
            <a:ext cx="6408720" cy="368280"/>
          </a:xfrm>
          <a:prstGeom prst="rect">
            <a:avLst/>
          </a:prstGeom>
          <a:solidFill>
            <a:srgbClr val="00006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ositiv feedback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instabili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Text Box 9"/>
          <p:cNvSpPr/>
          <p:nvPr/>
        </p:nvSpPr>
        <p:spPr>
          <a:xfrm>
            <a:off x="1258920" y="5598720"/>
            <a:ext cx="63374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ystems with learning capabilites are – without exception –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Is a system capable of learn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0000" y="213372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How we decide, a system is capable of learning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1116000" y="429264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here are positiv and negativ feedbacks in each systems with learning capabilities –  so they are instab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1116000" y="35002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In this process: there is a no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1116000" y="3068640"/>
            <a:ext cx="69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1116000" y="537300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earning is: self-mending on nondeterministic wa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1" name="Object 2"/>
          <p:cNvGraphicFramePr/>
          <p:nvPr/>
        </p:nvGraphicFramePr>
        <p:xfrm>
          <a:off x="684360" y="1773360"/>
          <a:ext cx="7848360" cy="47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848360" cy="47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4. Attributes of systems with learning capabilities - summar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826920" y="1844640"/>
            <a:ext cx="7467840" cy="47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ach learning system is instable (in pahse space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pable of making undeterministic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gets from a near stable point into another near stable point via 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ondition for learning: self knowledge and a model about the outer worl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knowledge here: how reacts the systems, what is the rectroactivity of the reaction back to the syste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elf mend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what is out of order, must be mend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for better reaction: making funtioning unit more efficti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cc0000"/>
                </a:solidFill>
                <a:latin typeface="Arial"/>
              </a:rPr>
              <a:t>The process of learning is not deterministic and cannot be reproduc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6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1 Non linear syste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2 Fract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11280" y="141300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hematic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t everybody likes it, but it is needed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athematics of nonlinear equations (chaos theory)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971640" y="31417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onlinear system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annot be described with linear euqations: example: turbulent motions in g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971640" y="184464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Hagyományos felfogás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ineáris egyenletek leírják a rendszert – folyamatos függvény, deriválható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71640" y="24922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Nemlineáris rendszerek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lyeket nem lehet lineáris egyenletekkel leírni: pl. gázok turbulens viselkedés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042920" y="3213000"/>
            <a:ext cx="720108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omplex rendszereket csak komplex függvényekkel lehet leírni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2124000" y="3788640"/>
            <a:ext cx="5184720" cy="36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: egyszerű determinisztikus fügvénny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547640" y="4507560"/>
            <a:ext cx="5761080" cy="1522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kezdeti feltételek apró változása a viselkedés nem gyanított gazdagságát adhat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látszólagos kaotikus viselkedés rendezett strukúrákat, finom és szép ábrázatokat eredményezh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0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1773360"/>
            <a:ext cx="7086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Visszacsatolás és iteráció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iteráció nagy  komplexitást hozhat lét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  x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kx(1-x) , ahol  0 &lt; x &lt; 1  (pék transzformáció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Lehetetlen megjósolni, bizonyos (nagy számú) lépés után       mi lesz x érté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1187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Nemlineáris egyenletek: a viselkedés pontos előrejelzése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042920" y="1773360"/>
            <a:ext cx="70866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Edward N.Lorenz(1963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szerű három paraméteres egyenletrendszer meteorológiai előrejelzés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rendkívül érzékeny a kezdeti paraméterek kicsi változására is 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előrejelzés lehetetl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Pillangó-hatás(1979): „Brazilia felett egy pillangó szárnylebbenése akár egy tornádót is okozhat Texas felet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476360" y="4795200"/>
            <a:ext cx="2374920" cy="103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x/dt = R(y-x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y/dt = x(P-z) – 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z/dt = xy - Bz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8" name="Picture 7" descr="lorenz"/>
          <p:cNvPicPr/>
          <p:nvPr/>
        </p:nvPicPr>
        <p:blipFill>
          <a:blip r:embed="rId3"/>
          <a:stretch/>
        </p:blipFill>
        <p:spPr>
          <a:xfrm>
            <a:off x="4572000" y="4508640"/>
            <a:ext cx="1728720" cy="14904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tematik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figyelés: az előrejelzés lehetetlensége, hogy egy adott időpontban az attraktor a fázistér melyik pontján halad á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971640" y="5444280"/>
            <a:ext cx="7345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őrejelzés lehetelensége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aotikus rendszer </a:t>
            </a:r>
            <a:r>
              <a:rPr b="1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 káoszelmél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5" name="Picture 7" descr="lorenz"/>
          <p:cNvPicPr/>
          <p:nvPr/>
        </p:nvPicPr>
        <p:blipFill>
          <a:blip r:embed="rId3"/>
          <a:stretch/>
        </p:blipFill>
        <p:spPr>
          <a:xfrm>
            <a:off x="1258920" y="2421000"/>
            <a:ext cx="3314520" cy="28573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8"/>
          <p:cNvSpPr/>
          <p:nvPr/>
        </p:nvSpPr>
        <p:spPr>
          <a:xfrm>
            <a:off x="1258920" y="5876280"/>
            <a:ext cx="633744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áosz elmélet === nemlineáris egyenletek matematiká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7" name="Picture 9" descr="lorenz-3Dview"/>
          <p:cNvPicPr/>
          <p:nvPr/>
        </p:nvPicPr>
        <p:blipFill>
          <a:blip r:embed="rId4"/>
          <a:stretch/>
        </p:blipFill>
        <p:spPr>
          <a:xfrm>
            <a:off x="5076720" y="278136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8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atematika- fraktálgeometri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Benoit Mandelbrot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önmagukhoz hasonló geometriai alakok tanulmányozása (felhő: 7 nagyságrend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19280" y="486828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raktálok: önmagukhoz hasonló alakzakok, önmagukat kicsinyítve tartalmazzá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Please follow next lin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4360" y="1844640"/>
            <a:ext cx="79930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obile teleph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Voice-, picture- and vidoe record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Question-Answer: only if one sencen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o knows the answer, should wait ½ a minu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Object 2"/>
          <p:cNvGraphicFramePr/>
          <p:nvPr/>
        </p:nvGraphicFramePr>
        <p:xfrm>
          <a:off x="685800" y="1523880"/>
          <a:ext cx="7848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848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geometria péld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1042920" y="177336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enger szőnyeg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ényszög közepét – oldalak szerint egyharmad arányban – kivágju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ierpinki háromszög</a:t>
            </a: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: lyukas háromszö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9" name="Picture 7" descr="sierp-zoom"/>
          <p:cNvPicPr/>
          <p:nvPr/>
        </p:nvPicPr>
        <p:blipFill>
          <a:blip r:embed="rId3"/>
          <a:stretch/>
        </p:blipFill>
        <p:spPr>
          <a:xfrm>
            <a:off x="5867280" y="3645000"/>
            <a:ext cx="2033640" cy="20336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8" descr="Aniteppich"/>
          <p:cNvPicPr/>
          <p:nvPr/>
        </p:nvPicPr>
        <p:blipFill>
          <a:blip r:embed="rId4"/>
          <a:stretch/>
        </p:blipFill>
        <p:spPr>
          <a:xfrm>
            <a:off x="1258920" y="3500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o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1042920" y="1773360"/>
            <a:ext cx="708660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aston Julia (1918)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 Kc azon komplex számok halmaza, amelyekre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z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8" name="Picture 5" descr="Julia_set"/>
          <p:cNvPicPr/>
          <p:nvPr/>
        </p:nvPicPr>
        <p:blipFill>
          <a:blip r:embed="rId1"/>
          <a:stretch/>
        </p:blipFill>
        <p:spPr>
          <a:xfrm>
            <a:off x="826920" y="1341360"/>
            <a:ext cx="7272360" cy="40896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1" name="Picture 5" descr="julia_red"/>
          <p:cNvPicPr/>
          <p:nvPr/>
        </p:nvPicPr>
        <p:blipFill>
          <a:blip r:embed="rId1"/>
          <a:stretch/>
        </p:blipFill>
        <p:spPr>
          <a:xfrm>
            <a:off x="1547640" y="1268280"/>
            <a:ext cx="5759640" cy="5108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4" name="Picture 5" descr="Mandel-Julia"/>
          <p:cNvPicPr/>
          <p:nvPr/>
        </p:nvPicPr>
        <p:blipFill>
          <a:blip r:embed="rId1"/>
          <a:stretch/>
        </p:blipFill>
        <p:spPr>
          <a:xfrm>
            <a:off x="1908000" y="1700280"/>
            <a:ext cx="4969080" cy="3730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Julia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97" name="Picture 5" descr="600px-Julia"/>
          <p:cNvPicPr/>
          <p:nvPr/>
        </p:nvPicPr>
        <p:blipFill>
          <a:blip r:embed="rId1"/>
          <a:stretch/>
        </p:blipFill>
        <p:spPr>
          <a:xfrm>
            <a:off x="2050920" y="1413000"/>
            <a:ext cx="5067360" cy="5067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Fraktálok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900000" y="2133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Milyen különbségek vannak az előző két kép közöt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1403280" y="3788640"/>
            <a:ext cx="633744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Különálló területek, vagy egy összefüggő 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4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 halmaz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7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042920" y="1773360"/>
            <a:ext cx="7086600" cy="25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Mandelbrot halmaz: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on komplex számok halmaza, amelyekre z = (o + i0) kezdőértékkel az iterált négyzetes komplex fügvén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Qc(z) = z2 + c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orlátos mar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Kc := {c€C;   lim |Qnc(0)| &lt; 0-0}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                                                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n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0-0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"/>
          <p:cNvSpPr/>
          <p:nvPr/>
        </p:nvSpPr>
        <p:spPr>
          <a:xfrm>
            <a:off x="1547640" y="4579920"/>
            <a:ext cx="5761080" cy="699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ndelbrot halmaz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halmaz a z=0 kezdőértékk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547640" y="5523840"/>
            <a:ext cx="576108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Julia sejtése: ezek a halmazok összefüggő területet ad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Mandelbrot: alma-emberk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3" name="Picture 5" descr="Mandelbrot-Menge_farbig"/>
          <p:cNvPicPr/>
          <p:nvPr/>
        </p:nvPicPr>
        <p:blipFill>
          <a:blip r:embed="rId1"/>
          <a:stretch/>
        </p:blipFill>
        <p:spPr>
          <a:xfrm>
            <a:off x="1258920" y="1557360"/>
            <a:ext cx="6656400" cy="4992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6" name="Picture 5" descr="db_Chaos-Mandelbrot1"/>
          <p:cNvPicPr/>
          <p:nvPr/>
        </p:nvPicPr>
        <p:blipFill>
          <a:blip r:embed="rId1"/>
          <a:stretch/>
        </p:blipFill>
        <p:spPr>
          <a:xfrm>
            <a:off x="1258920" y="1557360"/>
            <a:ext cx="633744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07520"/>
            <a:ext cx="77724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ont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Text Box 2053"/>
          <p:cNvSpPr/>
          <p:nvPr/>
        </p:nvSpPr>
        <p:spPr>
          <a:xfrm>
            <a:off x="684360" y="1844640"/>
            <a:ext cx="79930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bout systems with learning capabiliti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Relation: learning systems and IT architectu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Examples (IT architectur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Where we may learn (what are we doing wrong?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Rectangle 207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Alma-emberke részle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9" name="Picture 5" descr="abfluss"/>
          <p:cNvPicPr/>
          <p:nvPr/>
        </p:nvPicPr>
        <p:blipFill>
          <a:blip r:embed="rId1"/>
          <a:stretch/>
        </p:blipFill>
        <p:spPr>
          <a:xfrm>
            <a:off x="1547640" y="1700280"/>
            <a:ext cx="5545440" cy="4159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0" name="Object 2"/>
          <p:cNvGraphicFramePr/>
          <p:nvPr/>
        </p:nvGraphicFramePr>
        <p:xfrm>
          <a:off x="684360" y="1628640"/>
          <a:ext cx="784836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28640"/>
                    <a:ext cx="784836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  <a:ea typeface="Arial"/>
              </a:rPr>
              <a:t>5. Miért érekes a Mandelbrot halmaz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971640" y="2133720"/>
            <a:ext cx="708660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Julia halmazt értékelhetjük úgy, mint egy fázistér-ábr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Csak azok a Julia ábrák érdekesek, amelyekben a halmazelemek összefüggő területet alkotna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mennyiben egy rendszert csak ezen a területen belül engedjül létezni, a rendszer működőképes (korlátos) maradh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gy – nemlineáris egyenletekkel leírt – rendszer stabilitása nagyon érzékeny a pontos kezdeti feltételek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egjegyzés: nincs kijelentésünk a gyűjtőpontok (attraktor) számáról – Lorenz attraktor: 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1403280" y="5804640"/>
            <a:ext cx="576108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Mandelbrot halmaz szélei fraktálo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5. Fraktálok - kép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8" name="Picture 5" descr="800px-Mandelbrotmenge_Orbit_Alle"/>
          <p:cNvPicPr/>
          <p:nvPr/>
        </p:nvPicPr>
        <p:blipFill>
          <a:blip r:embed="rId1"/>
          <a:stretch/>
        </p:blipFill>
        <p:spPr>
          <a:xfrm>
            <a:off x="0" y="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971640" y="2133720"/>
            <a:ext cx="70866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repülőtér, két kijára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116000" y="4651920"/>
            <a:ext cx="6912000" cy="974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valós életben a döntések egy része nem előre meghatározot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hozzájárul ahhoz, hogy tudunk tanulni (alkalmazkodni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5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6. Szemléletbeli problémá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042920" y="1773360"/>
            <a:ext cx="708660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anulás folyamatában döntések egy része nem determinisztik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ha a döntés nem manifelsztálódik a külső vagy belső modellb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buClr>
                <a:srgbClr val="463416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 „alkotó” soha nem tudja meg, mikor miért döntött a rendszer úgy ahogy tett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Wingdings"/>
                <a:ea typeface="Wingdings"/>
              </a:rPr>
              <a:t>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 teljes tanulási folyamat nem ismételhető meg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determinisztikus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332000" y="4941000"/>
            <a:ext cx="64800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z az a pont, ahol a műszaki embereket kirázza a hideg!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1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1042920" y="1773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Mi az a jelenség vagy folyamat, ami jellemző a tanulóképes rendszerekre, és még nem volt róla szó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ire iszik a magyar ember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1403280" y="2133720"/>
            <a:ext cx="720720" cy="6476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2700360" y="2205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AutoShape 9"/>
          <p:cNvSpPr/>
          <p:nvPr/>
        </p:nvSpPr>
        <p:spPr>
          <a:xfrm>
            <a:off x="2700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ub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AutoShape 10"/>
          <p:cNvSpPr/>
          <p:nvPr/>
        </p:nvSpPr>
        <p:spPr>
          <a:xfrm>
            <a:off x="493236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iscus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6804000" y="22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less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12"/>
          <p:cNvSpPr/>
          <p:nvPr/>
        </p:nvSpPr>
        <p:spPr>
          <a:xfrm>
            <a:off x="4932360" y="4076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AutoShape 13"/>
          <p:cNvSpPr/>
          <p:nvPr/>
        </p:nvSpPr>
        <p:spPr>
          <a:xfrm>
            <a:off x="5003640" y="494172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forge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14"/>
          <p:cNvSpPr/>
          <p:nvPr/>
        </p:nvSpPr>
        <p:spPr>
          <a:xfrm>
            <a:off x="2340000" y="2421000"/>
            <a:ext cx="28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15"/>
          <p:cNvSpPr/>
          <p:nvPr/>
        </p:nvSpPr>
        <p:spPr>
          <a:xfrm>
            <a:off x="3348000" y="270828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16"/>
          <p:cNvSpPr/>
          <p:nvPr/>
        </p:nvSpPr>
        <p:spPr>
          <a:xfrm>
            <a:off x="4211640" y="3357720"/>
            <a:ext cx="57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17"/>
          <p:cNvSpPr/>
          <p:nvPr/>
        </p:nvSpPr>
        <p:spPr>
          <a:xfrm flipV="1">
            <a:off x="6443640" y="2707920"/>
            <a:ext cx="72072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8"/>
          <p:cNvSpPr/>
          <p:nvPr/>
        </p:nvSpPr>
        <p:spPr>
          <a:xfrm>
            <a:off x="5651640" y="3645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9"/>
          <p:cNvSpPr/>
          <p:nvPr/>
        </p:nvSpPr>
        <p:spPr>
          <a:xfrm>
            <a:off x="5651640" y="4508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8000"/>
                            </p:stCondLst>
                            <p:childTnLst>
                              <p:par>
                                <p:cTn id="4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042920" y="1773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Lot of old reactions is unnesessary in the new situa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What won’t be needed: should be forgott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187280" y="3283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Something to forget: may be consio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187280" y="4075920"/>
            <a:ext cx="648036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Distinction between important and not 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7. What we have misse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971640" y="2421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not important – forgetting - perce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971640" y="4652280"/>
            <a:ext cx="648000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z észlelést tudatunk – a lényeges, lényegtelen alapján –  jelentősen befolyásolj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1042920" y="2997360"/>
            <a:ext cx="70866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Az, hogy mit tartunk lényegtelennek, észlelésünket is befolyásolja. Nagyon jelentősen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971640" y="1844640"/>
            <a:ext cx="70866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reprodukciója (másolása)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tanulóképes rendszer reprodukciója egyszerű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már „tanult” rendszer másolása csak akkor egyszerű, ha a rendszer működés közben is fizikailag jól körülhatárolt és elválaszható környezetétő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116000" y="400536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Példa: tanított ideghálózat-szimuláció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férfi-nő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P A R 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684360" y="1341360"/>
          <a:ext cx="78483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41360"/>
                    <a:ext cx="78483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76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8. Technikai rendszere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971640" y="1844640"/>
            <a:ext cx="7086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Tanulóképes technikai rendszer önreprodukciój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- nem foglalkozunk vel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116000" y="4005360"/>
            <a:ext cx="70866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zámítógép vírusok: adaptációra képes „alkotások”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- Kérdés: hogyan vizsgálják meg, hogy befogadót</a:t>
            </a:r>
            <a:br>
              <a:rPr sz="1800"/>
            </a:b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(az adott számítógépet) már megfertőződöt-e az adott 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vírustól?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395280" y="1773360"/>
          <a:ext cx="845820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73360"/>
                    <a:ext cx="84582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3"/>
          <p:cNvSpPr/>
          <p:nvPr/>
        </p:nvSpPr>
        <p:spPr>
          <a:xfrm>
            <a:off x="468360" y="2924280"/>
            <a:ext cx="8064360" cy="3384360"/>
          </a:xfrm>
          <a:prstGeom prst="rect">
            <a:avLst/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AutoShape 4"/>
          <p:cNvSpPr/>
          <p:nvPr/>
        </p:nvSpPr>
        <p:spPr>
          <a:xfrm>
            <a:off x="539640" y="3933720"/>
            <a:ext cx="6191280" cy="180036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1908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9</a:t>
            </a:r>
            <a:r>
              <a:rPr b="0" lang="en-IE" sz="4400" spc="-1" strike="noStrike">
                <a:solidFill>
                  <a:srgbClr val="e3e3ff"/>
                </a:solidFill>
                <a:latin typeface="Arial"/>
                <a:ea typeface="Arial"/>
              </a:rPr>
              <a:t>. </a:t>
            </a: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Summar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3" name="Text Box 6"/>
          <p:cNvSpPr/>
          <p:nvPr/>
        </p:nvSpPr>
        <p:spPr>
          <a:xfrm>
            <a:off x="539640" y="1773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Systems with learning capabiliti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356400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63416"/>
                </a:solidFill>
                <a:latin typeface="Arial"/>
              </a:rPr>
              <a:t>Enw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843280" y="3141720"/>
            <a:ext cx="136692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percept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AutoShape 10"/>
          <p:cNvSpPr/>
          <p:nvPr/>
        </p:nvSpPr>
        <p:spPr>
          <a:xfrm>
            <a:off x="3132000" y="4437000"/>
            <a:ext cx="1366920" cy="4320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decision d/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684360" y="4437000"/>
            <a:ext cx="143964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mporta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2"/>
          <p:cNvSpPr/>
          <p:nvPr/>
        </p:nvSpPr>
        <p:spPr>
          <a:xfrm>
            <a:off x="399564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ista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3492360" y="2708280"/>
            <a:ext cx="0" cy="50472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4"/>
          <p:cNvSpPr/>
          <p:nvPr/>
        </p:nvSpPr>
        <p:spPr>
          <a:xfrm>
            <a:off x="1908000" y="5084640"/>
            <a:ext cx="1440000" cy="360360"/>
          </a:xfrm>
          <a:prstGeom prst="rect">
            <a:avLst/>
          </a:prstGeom>
          <a:solidFill>
            <a:srgbClr val="33cc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chan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Line 15"/>
          <p:cNvSpPr/>
          <p:nvPr/>
        </p:nvSpPr>
        <p:spPr>
          <a:xfrm flipV="1">
            <a:off x="1403280" y="3573000"/>
            <a:ext cx="1297080" cy="64764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Line 16"/>
          <p:cNvSpPr/>
          <p:nvPr/>
        </p:nvSpPr>
        <p:spPr>
          <a:xfrm>
            <a:off x="3492360" y="3645000"/>
            <a:ext cx="35892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2627280" y="4724280"/>
            <a:ext cx="432000" cy="2890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Line 18"/>
          <p:cNvSpPr/>
          <p:nvPr/>
        </p:nvSpPr>
        <p:spPr>
          <a:xfrm>
            <a:off x="4572000" y="4724280"/>
            <a:ext cx="287280" cy="36036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Line 19"/>
          <p:cNvSpPr/>
          <p:nvPr/>
        </p:nvSpPr>
        <p:spPr>
          <a:xfrm flipH="1">
            <a:off x="2268000" y="4581360"/>
            <a:ext cx="721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AutoShape 20"/>
          <p:cNvSpPr/>
          <p:nvPr/>
        </p:nvSpPr>
        <p:spPr>
          <a:xfrm>
            <a:off x="6804000" y="4221000"/>
            <a:ext cx="1655640" cy="79236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obliv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21"/>
          <p:cNvSpPr/>
          <p:nvPr/>
        </p:nvSpPr>
        <p:spPr>
          <a:xfrm>
            <a:off x="6372360" y="4508640"/>
            <a:ext cx="43308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22"/>
          <p:cNvSpPr/>
          <p:nvPr/>
        </p:nvSpPr>
        <p:spPr>
          <a:xfrm flipH="1">
            <a:off x="6372000" y="4724280"/>
            <a:ext cx="431640" cy="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Text Box 23"/>
          <p:cNvSpPr/>
          <p:nvPr/>
        </p:nvSpPr>
        <p:spPr>
          <a:xfrm>
            <a:off x="5003640" y="537372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Text Box 24"/>
          <p:cNvSpPr/>
          <p:nvPr/>
        </p:nvSpPr>
        <p:spPr>
          <a:xfrm>
            <a:off x="1979640" y="5877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stabile system with a lot of negative and positive loopback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AutoShape 25"/>
          <p:cNvSpPr/>
          <p:nvPr/>
        </p:nvSpPr>
        <p:spPr>
          <a:xfrm>
            <a:off x="4500720" y="3141720"/>
            <a:ext cx="1366560" cy="4316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66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26"/>
          <p:cNvSpPr/>
          <p:nvPr/>
        </p:nvSpPr>
        <p:spPr>
          <a:xfrm flipV="1">
            <a:off x="4284720" y="3645000"/>
            <a:ext cx="647640" cy="57600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Line 27"/>
          <p:cNvSpPr/>
          <p:nvPr/>
        </p:nvSpPr>
        <p:spPr>
          <a:xfrm flipV="1">
            <a:off x="5076720" y="2708280"/>
            <a:ext cx="0" cy="503280"/>
          </a:xfrm>
          <a:prstGeom prst="line">
            <a:avLst/>
          </a:prstGeom>
          <a:ln w="38160">
            <a:solidFill>
              <a:srgbClr val="46341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755280" y="263700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END OF  PART</a:t>
            </a:r>
            <a:br>
              <a:rPr sz="4000"/>
            </a:br>
            <a:r>
              <a:rPr b="0" lang="hu-HU" sz="4000" spc="-1" strike="noStrike">
                <a:solidFill>
                  <a:srgbClr val="e3e3ff"/>
                </a:solidFill>
                <a:latin typeface="Arial"/>
              </a:rPr>
              <a:t>1 / 4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I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rchitecture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is is a real technical issu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Examples (IT architecture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Is this not bor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we can do it better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(what is wrong?)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Common knowledge is common treasure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What is your view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learning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2268360" y="4365720"/>
            <a:ext cx="4896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Thank for your attention!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55280" y="2997360"/>
            <a:ext cx="7278840" cy="9144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11280" y="1484280"/>
            <a:ext cx="769608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About systems with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ffcc00"/>
                </a:solidFill>
                <a:latin typeface="Times New Roman"/>
              </a:rPr>
              <a:t>learning capabilities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68360" y="4365720"/>
            <a:ext cx="489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cc00"/>
                </a:solidFill>
                <a:latin typeface="Times New Roman"/>
              </a:rPr>
              <a:t>What is your view about learning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684360" y="1989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View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2133720"/>
            <a:ext cx="693432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Szemlélet: egy adott témához kapcsolódó felfogás vagy álláspo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Felfogás: gondolkodásmód, elképzelé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mód: mód, aholgyan gondolkodunk (spontán, érzelemmel, racionálisan,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Arial"/>
              </a:rPr>
              <a:t>Gondolkodás: belső elfoglaltság, amikor megpróbálunk egy felismerést megfogalmazni,elképzelések, emlékek és fogalmak alapjá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2124000" y="5589000"/>
            <a:ext cx="44658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A szemlélet alapja a hit, vagy a tudá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468360" y="1844640"/>
          <a:ext cx="7848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7848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07520"/>
            <a:ext cx="8001000" cy="9176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46341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3e3ff"/>
                </a:solidFill>
                <a:latin typeface="Arial"/>
                <a:ea typeface="Arial"/>
              </a:rPr>
              <a:t>Capable of learn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900000" y="21337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63416"/>
                </a:solidFill>
                <a:latin typeface="Arial"/>
              </a:rPr>
              <a:t>What is the criterion to be able to learn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742080"/>
            <a:ext cx="2987640" cy="115920"/>
          </a:xfrm>
          <a:prstGeom prst="rect">
            <a:avLst/>
          </a:prstGeom>
          <a:solidFill>
            <a:srgbClr val="4634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Copyright 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(c) 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0" i="1" lang="hu-HU" sz="1000" spc="-1" strike="noStrike">
                <a:solidFill>
                  <a:srgbClr val="ffffff"/>
                </a:solidFill>
                <a:latin typeface="Arial"/>
              </a:rPr>
              <a:t>10 Varga György</a:t>
            </a:r>
            <a:r>
              <a:rPr b="0" i="1" lang="en-IE" sz="1000" spc="-1" strike="noStrike">
                <a:solidFill>
                  <a:srgbClr val="ffffff"/>
                </a:solidFill>
                <a:latin typeface="Arial"/>
              </a:rPr>
              <a:t> All rights reserved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AutoShape 8"/>
          <p:cNvSpPr/>
          <p:nvPr/>
        </p:nvSpPr>
        <p:spPr>
          <a:xfrm>
            <a:off x="3203640" y="3645000"/>
            <a:ext cx="280836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learnin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124000" y="4653000"/>
            <a:ext cx="48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500720" y="4292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124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7020000" y="465300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AutoShape 13"/>
          <p:cNvSpPr/>
          <p:nvPr/>
        </p:nvSpPr>
        <p:spPr>
          <a:xfrm>
            <a:off x="118728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kill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AutoShape 14"/>
          <p:cNvSpPr/>
          <p:nvPr/>
        </p:nvSpPr>
        <p:spPr>
          <a:xfrm>
            <a:off x="5940360" y="5013360"/>
            <a:ext cx="1943280" cy="647640"/>
          </a:xfrm>
          <a:prstGeom prst="cube">
            <a:avLst>
              <a:gd name="adj" fmla="val 25000"/>
            </a:avLst>
          </a:prstGeom>
          <a:solidFill>
            <a:srgbClr val="3399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wn decisio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611280" y="5804640"/>
            <a:ext cx="3240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what and how: will be give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788000" y="5804640"/>
            <a:ext cx="34560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making own capability bette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1835280" y="2923560"/>
            <a:ext cx="518472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an good adapt to changing environme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AutoShape 18"/>
          <p:cNvSpPr/>
          <p:nvPr/>
        </p:nvSpPr>
        <p:spPr>
          <a:xfrm>
            <a:off x="7236000" y="4221000"/>
            <a:ext cx="720720" cy="6480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0:09:43Z</dcterms:created>
  <dc:creator>www.xplanet.hu</dc:creator>
  <dc:description/>
  <dc:language>en-US</dc:language>
  <cp:lastModifiedBy>Gyorgy Varga</cp:lastModifiedBy>
  <dcterms:modified xsi:type="dcterms:W3CDTF">2013-01-04T19:45:16Z</dcterms:modified>
  <cp:revision>1598</cp:revision>
  <dc:subject/>
  <dc:title>J2EE-001-VargaGy</dc:title>
</cp:coreProperties>
</file>