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26CB-6569-49FC-89CC-6628C190E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87FB-0E77-48DB-B44F-5234B4FD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A671-8D43-41FF-9B01-06BA94735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3C6-5F56-4AEE-9078-6A83DB56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5C4-0125-4D9B-9ABD-933C08BAF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6364-2CA3-45E8-A516-EDF37140F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B70-630F-483F-811A-90069A867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B0AF-85BC-43BC-84F2-3614F8508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C988-5D83-470C-873A-A98C6406B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25BF-EB77-4D12-95E1-40FDA8A49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C1E-432D-458B-BA3E-60EC86987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FEB1-C086-4FC7-B6CD-6E944CCD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D06F-B61F-4CE9-B040-8E3F1961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0573-6B20-4DD6-95AD-B5AC0C20F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6A90-1295-41C2-8633-9B0C7E537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954-B11B-4A3C-AFA5-81CBB979F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A104-6E30-4EA7-A7F4-8B3B040D6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B08D-F2F2-4FA3-BDB6-B2FD0B1B8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641F-ADC4-4670-94F3-BECEFE67C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75FD-D78A-4E34-B78A-1244BB070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308F-B1A7-4F3E-90DF-CC038076E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F0BF-AD93-48A4-8E1B-53CCA1A2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856-0FA9-4590-A760-7A74943CC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D694-2378-476D-A59A-B28870EA8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EB25-48D5-4E73-847C-AA37E0655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06BF-F3C7-481E-AF20-259C153CF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64B-8064-45D0-A094-1085868BA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A6B7-9DDA-4A4F-86A0-292243AB3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AE3F-09B8-49D7-869E-8729415F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452B-72C0-4AC5-AEA5-104E74AAC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EF3A-F344-4285-AE85-B1B24EDB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55B-83AB-48DB-A4D1-364FCF5E3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ACE9-D713-47F2-9D90-40B1039C0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1D27-D357-4C57-9D0B-43DC13E8E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C974-3C0C-4788-8BBF-44ED34E4A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E783-1567-4C49-972A-09AB561CC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EDDD-D11A-4732-8346-882B5520A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F576-5264-4802-BDDB-6F84A6BD4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CBCE-2BFE-4680-8D12-F882043E6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4745-02B4-449D-BD15-75F8AE45B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D659-6278-45E3-9C27-ADAADC016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1E52-5402-44AE-AE77-4121516FE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B224-8B57-472E-B31E-44A486F31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B4FE-1F73-4D57-8AC4-B7206122E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63E8-BD35-4484-A4D0-D4BA63384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67C-75A4-4862-8607-40AAD00CA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9757-B84A-4CFB-881C-649EB94BC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EBA1-A9F4-49CD-9CA4-285695642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8644-0896-424A-BCA8-6E36D256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9367-7C23-4140-BD00-54EB5217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927F-CB28-429A-8FDE-360487C27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0EC5-3F1B-4D2E-B557-7899CF9C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BFC6-90E0-4A86-954B-3E3A19F17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54D6-389F-4EE6-B34E-238CF89A3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551-44CD-431B-BA25-4614C55B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A833-E041-4E4D-A1D3-FB3ADAD56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065D-EBDA-4110-9365-339C7A6BD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59E-4DA4-45AA-8D65-BE8928EE6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226-E1EC-4DEA-BAA5-27B04B3C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A14-CBB4-4827-AEDA-E66753FE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26E-490C-4F3E-85F9-0CCEE492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D0F-A7B0-4293-A0EB-02CED7D4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1A398-F538-4B67-AB28-995FAFBB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0E00EA-7E7A-4EEF-9643-C5CD0F5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611B9-71CC-45C7-B33F-84B7C1E9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4CFC6-1F5B-47A5-9E4E-AFCC593A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F8E11-CBB4-46FB-B392-EB721230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1778A-6B47-4CF5-B6EB-1E9D4DAF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2147D-73A9-44A0-AA98-7635C38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FEBB-2635-4DB5-92BC-DC3D3429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A797D-8B24-44CF-AA8B-9CF93845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3E1DF-AAB8-47CB-85DE-E311397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4CE54-C697-4B1E-8FC6-90DC3D6D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A5877-CCA7-4065-AB5E-3B4D28EC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66C7D-9B25-407E-8FEC-4C017D66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215-3353-4EAB-8C94-90140064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73E-54F8-4B06-A735-0C6101EA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CCA-90C5-4A83-BC27-839E8350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50F1-D6FE-42E8-B7DF-04AE46C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97B1-5C1A-4DE4-A372-A5EF3DDD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1C0-ECBB-4EEB-AD1C-777AB2B3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CCB4-1123-41A4-AC24-F333EE0D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D762-4602-4FA4-B3FC-7D6CB45F6A7F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DF57-1514-4F1B-9D15-9D15BEB4B456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ezérlé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megadom, mit csinálj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beavatkozás az „elvárt” és „valós” összevetése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sináld ez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részletesebb ábráz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ott érté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aló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vá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lté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Adaptí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változó szakasz-tulajdonság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zaka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állap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kasz adott, modellje teljesen ismert, a szakasz tulajdonságai változhatnak, amit a szabályzóban található modell köv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zabályz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24"/>
          <p:cNvSpPr/>
          <p:nvPr/>
        </p:nvSpPr>
        <p:spPr>
          <a:xfrm>
            <a:off x="4572000" y="2349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zav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Line 25"/>
          <p:cNvSpPr/>
          <p:nvPr/>
        </p:nvSpPr>
        <p:spPr>
          <a:xfrm>
            <a:off x="4500720" y="2276640"/>
            <a:ext cx="0" cy="43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étféle visszacsatol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 és pozití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ív: folyamatos működésű rendszerekben a belső szabályozás negatív visszacsatolással működ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5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zitív: a legkisebb változás is aránytalanul nagy változást idéz elő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1547640" y="5373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általában negatív asszociáció: romb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ok - pozití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visszacsatolás szükségszerűség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 nélkül: atombom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abályozással: atomerőmű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anyer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ógia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2340000" y="3860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éralva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85128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vélhullás (apoptózi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3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instabil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lyan szabályozott körben, ahol pozitív és negatív visszacsatolások is vannak, az instabilitás valószínűsége nagyobb mint null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ás: annak a lehetősége, hogy a rendszer irányíthatatlanná, szabályozhatatlanná válik, vagy olyan állapotba jut, ami számunkra kedvezőtlen és onnan visszahozni nem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ív és negatív együtt: oszcillálás lehető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ókák és nyulak száma egy relatív zárt rendszer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Visszacsatolás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8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ázisté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ázistér technika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rendszer változóit absztakt térben jelenítjük meg, amelyben egyetlen pont leírja az egész rendsz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íz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900000" y="2349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század: komplex rendszerek megismerésének módja: vegyük szét elemekre, az elemeket vizsgáljuk me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971640" y="364500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Biológiába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z nem vezet eredmény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éteznek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kiemelkedő tulajdonságo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emergente Eigenschaften) : amelyek megjelenése nem magyarázható meg a részek tulajdonságaiv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971640" y="5445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a tanulás képessége a „késszé összeálló rendszer tulajdonsága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Varga György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539640" y="458136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nek kezdetben több stabilitási pontja van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stabil pontból egy másik esetleg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 determinisztikus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1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f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öbb 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napozó egysejtű esete (Gánti Tibor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tt túl sok egysejtű él: kevés ennivaló, kevés fény.        Merre megy barátunk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 a biológiában: pl. biceps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gyan nőnek az izomok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űködő egységet hatékonyabbá tenni” nem létezhet pozitív visszacsatolás nélkü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ra képes rendszerekben kötelezően létezik pozitív visszacsato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ív visszacsatolás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258920" y="55692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tanulásra képes rendszerek – kivétel nélkül –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stabil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Mikor tanulóképes egy rendsz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1116000" y="4292640"/>
            <a:ext cx="6934320" cy="916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cc00"/>
                </a:solidFill>
                <a:latin typeface="Arial"/>
              </a:rPr>
              <a:t>Minden – analóg vezérléstechnikával leírt – tanuóképes rendszerben van pozitív visszacsatolás, ezért ilyen  modellben leírt rendszer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és ebben a folyamatban nem determinisztikus döntés is történik (trial&amp;error, „szubjektív”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anulás: önjavítás nem determinisztikus mód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Tanulóképes rendszerek tulajdonságai - összefoglalá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26920" y="2060640"/>
            <a:ext cx="7467840" cy="44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instabil (a fázistérbe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determinisztikus döntésre kép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a által jut el egy közel stabil pontból egy másik közel stabil pont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eltételez önismeretet és egy modellt a külvilágró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önismeret itt: mivel, hogyan reagál a rendszer, a reagálásnak milyen visszahatása van a rendszer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javítás képessé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i elromlott, ki kell javíta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obb reakció érdekében: működő egységet hatékonyabbá ten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A tanulás folyamata nem determiniszikus és nem reprodukálhat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emlineáris egyenlet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 mindenkinek tetszik, de szükségszerű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m lineáris egyenletek matematikája (káoszelmélet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2050920" y="3788640"/>
            <a:ext cx="5185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Text Box 10"/>
          <p:cNvSpPr/>
          <p:nvPr/>
        </p:nvSpPr>
        <p:spPr>
          <a:xfrm>
            <a:off x="161928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Kérés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o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Hang- vagy képrögzít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em begyakorolt – tartalom, összeállít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Kérdés-válasz: egy mond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ki tudja a válasz, várjon fél perc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0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rtalo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anulásra képes rendszerekrő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nformatikai rendszer architektúrájának kérdései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Példák (IT architektúra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hol van még mit tanulni (mit csinálunk rosszul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Összefoglalá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39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2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45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ocs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gbeszé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m tanulsá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6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80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Új környezetben a régi reakciók egy része felesl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Amire nincs szükség: el kell felejte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felejtés tudatos is le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bséget kell tenni a lényeges és lényegtelen közö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Ami kimarad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Lényegtelen – felejtés - észlelé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Tanulásra kép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rendszerekről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97964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nek mi az elképzelése a tanulásról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Összefoglal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ásra képes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örny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észl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öntés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ényeg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téved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ált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elej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mlékez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24"/>
          <p:cNvSpPr/>
          <p:nvPr/>
        </p:nvSpPr>
        <p:spPr>
          <a:xfrm>
            <a:off x="2771640" y="587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ív és pozitív visszacsatolású, instabil rendsz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beavatk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Informatikai rendszer architektúrájának kérdése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4"/>
          <p:cNvSpPr/>
          <p:nvPr/>
        </p:nvSpPr>
        <p:spPr>
          <a:xfrm>
            <a:off x="1908000" y="3860640"/>
            <a:ext cx="4896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anulásra képes rendszerek az IT architektúrába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Példa (IT architektúra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Önök nem únják mé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hol van még mit tanulni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mit csinálunk rosszul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 közös tudás egyben közös kincs i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Önnek mi az elképzelés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 tanulásról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Köszönöm türelmüket és figyelmüke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V É G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zemlé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Szemlél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Tanulókép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kor tanulóképes egy rendsz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ul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tanítj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nálló dönt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egadják mit, hogy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804640"/>
            <a:ext cx="32403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aját képesség javítás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a a változó körülményekhez jól tud igazodn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Tanulásra képes rendszerekről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Vezérlés és szabályoz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íz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Tanulóképes rendszerek tulajdonságai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ema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Szemléletbeli problém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Ami kimarad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kai rendszere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Összefoglal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Vezérlés és szabályozá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ibernetika: interdiszciplináris kutatási irá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ematika, biológia, szabályozás, társadalo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egfontosabb eredményei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ezérlés- és szabályozás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visszacsatolás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ációelmélet (jel-elméle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állapottér (fázisdiagramm) vizsgál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50:30Z</dcterms:modified>
  <cp:revision>1590</cp:revision>
  <dc:subject/>
  <dc:title>J2EE-001-VargaGy</dc:title>
</cp:coreProperties>
</file>